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7936-4F8D-4C93-8CB6-B9BA996C2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я метафора: Люди не меняю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CBC8-82EE-49BE-A8E5-F6ECBE2D3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E185-C1D7-4C7F-B799-C16F1BE72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7234-704F-4B5D-8AD1-1081D3B03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я история о папе, пример нелогичной свя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3BFA-DD93-4246-8CEC-826F867CE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й Кавас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Guy Kawasak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одился 30 августа 1954 года в Гонолулу, Гавайи) — один из первых работников компании Apple Computer, ответственный за маркетинг компьютера Macintosh в 1984 году. Он известен тем, что перенёс концепцию «евангелизма» в высокотехнологичный бизнес, фокусируясь на создании слоя пользователей — горячих приверженцев бренда A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1D3D-4CA8-40E6-884F-6947F7067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 телес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 глубоких вдохов-выдо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ох – до конца, вжать в себя промежность – нижнюю чак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ться, пока не будет крит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хнуть пол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кратное 3 количество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5DED-E41C-454B-82C0-6F0A6818A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а о петухе и зерныш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01A3-E318-44A1-B99E-DDAF2F3DC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C27-5661-4149-A7B1-22412A333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A425-BECD-46E5-A72D-E2B83B9CB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48E2-83E6-429B-AF50-A3DB66FB3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FADF-1F24-41BB-AE58-B542611FD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любишь себя – любая дрянь на польз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орректировать свои новые убеждения в соответствии с прав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7D9-5C55-4BA5-85B5-17FC33711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AD7D-F568-499B-BA75-B032E5478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любишь себя – любая дрянь на польз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CAC-5BFC-4A0A-8F4B-4024D9B37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205-FFC3-4DF5-B7FF-3E7F1F8D3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5BEB-4492-48A2-B700-C3DCA504F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A334-F3D6-4815-A11E-772B29821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6349-0CDA-449C-82B2-CEB272A2B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BF4-C592-45E3-88F7-D5E5C324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792-6784-4E03-8B5D-FDCE4A7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12D-193A-4C61-9573-05FF06BE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7F0-108F-47CB-8D63-2009291B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EFB0-E4FB-4EDF-9ED6-FE1841C5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96D0-768A-46CD-A296-AF0A9134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570-D72E-479C-9CDE-85AC0BD6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A7D1-8F13-4D46-9A64-D74B9A67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E82B-03E6-4938-9412-4AA02A4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7488-FF5F-4301-9E24-201575E6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D2B7-0FD0-4BA1-8382-92D55A18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720-63A7-4860-A4DB-2BCBDEB1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4DF-F7EF-4CC3-A7AA-5DDA743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4673-1519-4DE0-9628-8BD37E6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06AE-00A3-4C3A-9BA5-E7A61C0A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DA5-ABAC-4FBA-9491-0DFD60CB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E25D-E805-402E-81BA-9637F7EA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8E6-8A88-43C6-A119-B535EBC2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D0C-7C96-48FC-A342-1DA8CE9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AA2-3F1C-41B0-8BA0-3E9B6951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F95-33D6-4B41-BF7E-8EA755B0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252-4615-4583-9782-F9ACF57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BDC-B572-48C3-8FC4-A2C85236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32F-3DDD-4316-A9AE-B392846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A3BA-B92F-420E-A460-7B4F72FF0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4BCE-ADE4-4D79-8707-6ABF9932EE30}" type="slidenum">
              <a:rPr b="0" lang="en-US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Оздоравливаем  мысли: работа с убеждения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4.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анализ/опровержение неадекватных убежд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 вы можете опровергнуть эти убежд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рассуждения будут конструктивным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Используйте для их построения позитивные убеждения (все люди свободны; все люди сами отвечают за свою жизнь; все люди автономн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4 мину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5: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вывод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ресурсные переживания и планируемое поведение завершают ситуац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 вы намерены себя вести, чтобы завершить ситуац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переживания это вызыва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3 мину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Если Вы определил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что это вообще какие-то левые мысл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непонятно откуда зашедши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что дел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ай Кавасаки: Не дайте разным бозо себя замучи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838080" y="1566720"/>
            <a:ext cx="75438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нтра: «Это – чужие мысли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о – чужие мысл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087560" y="1143000"/>
            <a:ext cx="7086600" cy="3429000"/>
          </a:xfrm>
          <a:prstGeom prst="rect">
            <a:avLst/>
          </a:prstGeom>
          <a:ln w="0">
            <a:noFill/>
          </a:ln>
        </p:spPr>
      </p:pic>
      <p:sp>
        <p:nvSpPr>
          <p:cNvPr id="121" name="Title 1"/>
          <p:cNvSpPr/>
          <p:nvPr/>
        </p:nvSpPr>
        <p:spPr>
          <a:xfrm>
            <a:off x="51588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иливает или ослабля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важно знать об убеждения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Сами не уйду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Только осознанное действие принесет  изме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2. Свято место пусто не бывае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Освободили пространство от негативных убеждений – заполните его позитивными, усиливающи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4"/>
          <p:cNvSpPr/>
          <p:nvPr/>
        </p:nvSpPr>
        <p:spPr>
          <a:xfrm rot="10800000">
            <a:off x="1187280" y="914400"/>
            <a:ext cx="5875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ИР (друг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28920" y="1631880"/>
            <a:ext cx="235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30"/>
          <p:cNvGrpSpPr/>
          <p:nvPr/>
        </p:nvGrpSpPr>
        <p:grpSpPr>
          <a:xfrm>
            <a:off x="2135160" y="898200"/>
            <a:ext cx="5584680" cy="4649760"/>
            <a:chOff x="2135160" y="898200"/>
            <a:chExt cx="5584680" cy="4649760"/>
          </a:xfrm>
        </p:grpSpPr>
        <p:sp>
          <p:nvSpPr>
            <p:cNvPr id="127" name="Line 31"/>
            <p:cNvSpPr/>
            <p:nvPr/>
          </p:nvSpPr>
          <p:spPr>
            <a:xfrm>
              <a:off x="2135160" y="5543640"/>
              <a:ext cx="5584680" cy="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2135160" y="898560"/>
              <a:ext cx="55846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 flipV="1">
              <a:off x="2135160" y="902160"/>
              <a:ext cx="0" cy="4645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 flipV="1">
              <a:off x="7719840" y="898200"/>
              <a:ext cx="0" cy="4645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 flipV="1">
              <a:off x="4927320" y="902160"/>
              <a:ext cx="0" cy="4645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2135160" y="3225600"/>
              <a:ext cx="55846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 Box 25"/>
          <p:cNvSpPr/>
          <p:nvPr/>
        </p:nvSpPr>
        <p:spPr>
          <a:xfrm>
            <a:off x="5181480" y="1762200"/>
            <a:ext cx="235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286000" y="3900600"/>
            <a:ext cx="235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181480" y="3900600"/>
            <a:ext cx="235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2171880" y="5560920"/>
            <a:ext cx="5584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Возьмите «чужое» убеждение, которое вы обнаружили вч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2.  Скажите: «Это – чужая мысл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3. Создайте убеждение, которое будет полезным для в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33814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Выберите открытку, которая очень приятна для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Выберите открытку, которая максимально неприятна для в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накомст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tent Placeholder 8"/>
          <p:cNvSpPr/>
          <p:nvPr/>
        </p:nvSpPr>
        <p:spPr>
          <a:xfrm>
            <a:off x="7621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И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Убеждение, которое Вы хотите сегодня  встроить в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Моя сегодняшняя энергия – это 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Опишите вашему партнеру, какие чувства и мысли вызывает в вас каждая из откры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Расскажите о себе от каждой открытки (Если бы я был открыткой, то я бы сказал, что Ира …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Что хорошего хочет для меня каждая из открыто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Что даёт мне эта мысль? Какую пользу она может принест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с убежден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ПНБ1"/>
          <p:cNvPicPr/>
          <p:nvPr/>
        </p:nvPicPr>
        <p:blipFill>
          <a:blip r:embed="rId1"/>
          <a:stretch/>
        </p:blipFill>
        <p:spPr>
          <a:xfrm>
            <a:off x="900000" y="3716280"/>
            <a:ext cx="6610320" cy="226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ПНБ2"/>
          <p:cNvPicPr/>
          <p:nvPr/>
        </p:nvPicPr>
        <p:blipFill>
          <a:blip r:embed="rId2"/>
          <a:stretch/>
        </p:blipFill>
        <p:spPr>
          <a:xfrm>
            <a:off x="3924360" y="1268280"/>
            <a:ext cx="4545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7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«4 сту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Выберите в пространстве 4 точки (можно задействовать 4 стула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- цель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–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желаемый результат или действ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- </a:t>
            </a: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отмазка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–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установка, которая  мешает, препятствует достижению цел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- мотивация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–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что важнее отмазки, почему все-таки стану это дела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- ценность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-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что еще больше и важнее, чем мотиваци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7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«4 сту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2.  Поэтапно проходим все 4 точк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формулируем цель, проверяем экологию (представь, что ты ее уже достиг, все ли тебя устраивает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Отмазка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перечисляем все установки и препятствия, внутренние и внеш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Мотивация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ищем позитивную («к») и негативную («от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Ценность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добавляем ценности, определяя, что тогда становится  возможным для теб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3. Из точки ценности создаем установку, которая будет способствовать достижению це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7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жедневная поддерживающая практи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Представьте желаемое Будущее через 2 года. Смотрите со стороны (диссоциирова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2.    Пойти в это Будущее и прожить его как Настоящее (ассоциирован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3.    Посмотреть из точки Будущего на Настоящее, как на Прошло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А</a:t>
            </a:r>
            <a:r>
              <a:rPr b="0" lang="uk-UA" sz="2400" spc="-1" strike="noStrike">
                <a:solidFill>
                  <a:srgbClr val="262626"/>
                </a:solidFill>
                <a:latin typeface="Calibri"/>
              </a:rPr>
              <a:t>) дать любой сове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Calibri"/>
              </a:rPr>
              <a:t>Б) сказать, во что лучше верить, какую установку трениро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Calibri"/>
              </a:rPr>
              <a:t>В) что делать/не дел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5504040" y="388620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533520" y="3375000"/>
            <a:ext cx="2404800" cy="271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>
            <a:off x="6400800" y="528480"/>
            <a:ext cx="2362320" cy="3057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5"/>
          <a:stretch/>
        </p:blipFill>
        <p:spPr>
          <a:xfrm>
            <a:off x="152280" y="0"/>
            <a:ext cx="25909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62626"/>
                </a:solidFill>
                <a:latin typeface="Calibri"/>
              </a:rPr>
              <a:t>Иногда ход нашей мысли результирует в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62626"/>
                </a:solidFill>
                <a:latin typeface="Calibri"/>
              </a:rPr>
              <a:t>«Лучше предать самого себя, чем столкнуться </a:t>
            </a:r>
            <a:r>
              <a:rPr b="1" lang="ru-RU" sz="4000" spc="-1" strike="noStrike">
                <a:solidFill>
                  <a:srgbClr val="262626"/>
                </a:solidFill>
                <a:latin typeface="Calibri"/>
              </a:rPr>
              <a:t>лицом к лицу с собственным величие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alibri"/>
              </a:rPr>
              <a:t>Джеймс Холл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ontent Placeholder 4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471920" cy="4876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5005440" y="838080"/>
            <a:ext cx="360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ри Плей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южноафриканский игрок в гольф , один из величайших гольфистов в истории. Единственный спортсмен, который выигрывал открытый кубок Британии по гольфу на протяжении трех десятиле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построения убе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Присутствует слово «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Цепляет, вдохновляет, заряжает, приятна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Сформулировано позитивным языком (и противоположно негативному убежде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Максимально коротко сформулиров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Сформулировано в настоящем времени – так, как будто это уже есть, уже в вас встрое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Развивает, даёт большее позволение (с каждым днём всё больше и больше…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ьберт Эллис (1913-200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512px-Albert_Ellis_2003_seated"/>
          <p:cNvPicPr/>
          <p:nvPr/>
        </p:nvPicPr>
        <p:blipFill>
          <a:blip r:embed="rId1"/>
          <a:stretch/>
        </p:blipFill>
        <p:spPr>
          <a:xfrm>
            <a:off x="914400" y="160020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464832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ериканский психолог и когнитивный терапевт, автор рационально-эмоциональной поведенческой терап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л негативные эмоции и дисфункциональные поведенческие реакции, как следствие интерпретации этого опыта, т.е. как результат неверных когнитивных установок — иррациональных верова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анализ (А. Эллис, 1950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А – инициирующее собы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убеждения (внутренний диалог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следст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анализ неадекватных убеж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выв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action_reaction_tshirt-p235766833012404303y8xo_400"/>
          <p:cNvPicPr/>
          <p:nvPr/>
        </p:nvPicPr>
        <p:blipFill>
          <a:blip r:embed="rId1"/>
          <a:stretch/>
        </p:blipFill>
        <p:spPr>
          <a:xfrm>
            <a:off x="6629400" y="3809880"/>
            <a:ext cx="23018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1: А – инициирующее событие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Что произошло; что вызвало вашу реакцию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2: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C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следствие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кие негативные эмоции Вы ощущали? Ваше неконструктивное поведение на это событие. Что вы делали и что переживали в ответ на событие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3: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B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убеждения (внутренний диалог)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кие Ваши мысли и убеждения послужили основанием для этой реак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4.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D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анализ/опровержение неадекватных убеждений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к вы можете опровергнуть эти убеждения? Какие рассуждения будут конструктивными?  Используйте для их построения позитивные убеждения (все люди свободны; все люди сами отвечают за свою жизнь; все люди автономны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5: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E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выводы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Ресурсные переживания и поведение, завершающие ситуацию. Как вы намерены себя вести, чтобы завершить ситуацию. Какие переживания это вызыва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1: А – инициирующее событ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Что произошл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Что вызвало вашу реакц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1 мину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2: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следств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негативные эмоции Вы ощущал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м было Ваше неконструктивное поведение на это событ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Что вы делали и что переживали в ответ на событи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3 мину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3: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убеждения (внутренний диалог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Ваши мысли и убеждения послужили основанием для этой реа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3 мину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8:22:37Z</dcterms:created>
  <dc:creator>Yury Shilyaev</dc:creator>
  <dc:description/>
  <dc:language>en-US</dc:language>
  <cp:lastModifiedBy>nti</cp:lastModifiedBy>
  <dcterms:modified xsi:type="dcterms:W3CDTF">2013-07-30T09:38:10Z</dcterms:modified>
  <cp:revision>98</cp:revision>
  <dc:subject/>
  <dc:title>Mentoring Programs</dc:title>
</cp:coreProperties>
</file>