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EB1-5183-420B-83AF-51BAD289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C63-0960-4B6A-BE9C-83BF53B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1AE-912A-4AE0-A017-3681588D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473-5751-40BF-837A-3F130CF4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5AD-80BD-4398-B54F-5BA5E5FE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62E-4B89-4B64-8552-C63C2AA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1D2-4264-4F25-AB82-94225EA9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65D-1AA2-484F-BD5C-4A40181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442-4095-450F-848D-B155E070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B3D-4789-4947-8038-4FD9D00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3EB-B421-4293-AE42-FB2D37C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273-BE05-4E7E-B9DC-35F1248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0DB-E949-4CAF-9589-CB220CA0865E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AGLE TRANSPOR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422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DCIM\100PHOTO\SAM_1773.JPG"/>
          <p:cNvPicPr/>
          <p:nvPr/>
        </p:nvPicPr>
        <p:blipFill>
          <a:blip r:embed="rId1"/>
          <a:stretch/>
        </p:blipFill>
        <p:spPr>
          <a:xfrm>
            <a:off x="468360" y="1484280"/>
            <a:ext cx="3816360" cy="20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E:\DCIM\100PHOTO\SAM_1776.JPG"/>
          <p:cNvPicPr/>
          <p:nvPr/>
        </p:nvPicPr>
        <p:blipFill>
          <a:blip r:embed="rId2"/>
          <a:stretch/>
        </p:blipFill>
        <p:spPr>
          <a:xfrm>
            <a:off x="5003640" y="1484280"/>
            <a:ext cx="3876840" cy="206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DCIM\100PHOTO\SAM_1771.JPG"/>
          <p:cNvPicPr/>
          <p:nvPr/>
        </p:nvPicPr>
        <p:blipFill>
          <a:blip r:embed="rId3"/>
          <a:stretch/>
        </p:blipFill>
        <p:spPr>
          <a:xfrm>
            <a:off x="2771640" y="3933720"/>
            <a:ext cx="3873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PES User</cp:lastModifiedBy>
  <dcterms:modified xsi:type="dcterms:W3CDTF">2012-03-03T20:34:52Z</dcterms:modified>
  <cp:revision>710</cp:revision>
  <dc:subject/>
  <dc:title>SARCAR</dc:title>
</cp:coreProperties>
</file>