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EA9-8440-4F44-9794-4AE10346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1B8-9C74-4089-89D6-E7F2F03D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524-05FF-40DB-8CCD-6DF9DFE0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D71-0D27-4052-A9DE-2E361DD0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EE1-3BCF-4CE6-9433-81A5BFA4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363-19FF-4418-B6CC-01D84B9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48F-C591-4E04-BACA-32A344DD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FD3-5503-4074-9532-91624F20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C3E-E2CC-40F5-B0FB-BA173FA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1C7-E6A8-49AF-BB23-8D981F6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A9E-BB9C-4AA8-B344-50FEBBA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1C2-E8B6-436E-BC79-CC9AE47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D725-239C-432F-9DA5-7833592860B9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NERGY SOLU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79280" y="422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n 14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Imagen 17" descr=""/>
          <p:cNvPicPr/>
          <p:nvPr/>
        </p:nvPicPr>
        <p:blipFill>
          <a:blip r:embed="rId2"/>
          <a:stretch/>
        </p:blipFill>
        <p:spPr>
          <a:xfrm>
            <a:off x="3203640" y="41162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6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Imagen 4" descr=""/>
          <p:cNvPicPr/>
          <p:nvPr/>
        </p:nvPicPr>
        <p:blipFill>
          <a:blip r:embed="rId4"/>
          <a:stretch/>
        </p:blipFill>
        <p:spPr>
          <a:xfrm>
            <a:off x="3059280" y="1052640"/>
            <a:ext cx="2808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Imagen 7" descr=""/>
          <p:cNvPicPr/>
          <p:nvPr/>
        </p:nvPicPr>
        <p:blipFill>
          <a:blip r:embed="rId5"/>
          <a:stretch/>
        </p:blipFill>
        <p:spPr>
          <a:xfrm>
            <a:off x="5724360" y="1052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11" descr=""/>
          <p:cNvPicPr/>
          <p:nvPr/>
        </p:nvPicPr>
        <p:blipFill>
          <a:blip r:embed="rId6"/>
          <a:stretch/>
        </p:blipFill>
        <p:spPr>
          <a:xfrm>
            <a:off x="324000" y="1052640"/>
            <a:ext cx="280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PES User</cp:lastModifiedBy>
  <dcterms:modified xsi:type="dcterms:W3CDTF">2012-03-05T16:21:09Z</dcterms:modified>
  <cp:revision>713</cp:revision>
  <dc:subject/>
  <dc:title>SARCAR</dc:title>
</cp:coreProperties>
</file>