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2DF-693A-4318-9C85-D44E88FA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9E6-274E-4958-9139-D7E0456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8C6-4627-4F6D-8F50-3FD197C7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F10-DF86-4AB5-B55D-64648301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91F-F04A-4418-9B0F-ACC0823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817-5154-4561-8B7E-08219B8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E8A-C207-4EFA-AA88-EF6DDBA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5F5-8E85-440D-9133-3F0356E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605-D634-4CAD-A0C9-C227C7D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89A-F9F1-40C1-95C0-D46C5D2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0AF-16EF-4148-B595-CDDE097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CF3-8413-44D4-8B82-AED4A2F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D5D-2377-4817-8DC7-19E6D139C314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CTIVIDADES  DE ELECTRI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E:\DCIM\100DICAM\DSCI2841.JPG"/>
          <p:cNvPicPr/>
          <p:nvPr/>
        </p:nvPicPr>
        <p:blipFill>
          <a:blip r:embed="rId1"/>
          <a:stretch/>
        </p:blipFill>
        <p:spPr>
          <a:xfrm>
            <a:off x="3046320" y="3933720"/>
            <a:ext cx="3051360" cy="223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E:\DCIM\100DICAM\DSCI2842.JPG"/>
          <p:cNvPicPr/>
          <p:nvPr/>
        </p:nvPicPr>
        <p:blipFill>
          <a:blip r:embed="rId2"/>
          <a:stretch/>
        </p:blipFill>
        <p:spPr>
          <a:xfrm>
            <a:off x="5349960" y="1125360"/>
            <a:ext cx="3052800" cy="224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E:\DCIM\100DICAM\DSCI2844.JPG"/>
          <p:cNvPicPr/>
          <p:nvPr/>
        </p:nvPicPr>
        <p:blipFill>
          <a:blip r:embed="rId3"/>
          <a:stretch/>
        </p:blipFill>
        <p:spPr>
          <a:xfrm>
            <a:off x="771480" y="1125360"/>
            <a:ext cx="305280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3T13:02:41Z</dcterms:modified>
  <cp:revision>733</cp:revision>
  <dc:subject/>
  <dc:title>SARCAR</dc:title>
</cp:coreProperties>
</file>