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83C-B7A4-492E-8284-58D571CC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861-32DB-4A2E-B74A-D650BAE6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C8B-F192-401B-876C-5393E0CC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AFA-6F1E-49F3-9745-14A37185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871-3D87-4456-BEBD-97973513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3F1-F422-48C5-A599-42E019B5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D3F-2940-4C94-956B-F6EA9820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E9D-56D7-4D28-A7D3-86DB46C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22A-3A8C-4420-8AEA-54906F5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FCD-365C-43AF-8B84-907FE93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BB2-AEAB-4D3A-A5B9-F148346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04C-A9EA-43A1-967C-52C4CC11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041D-EFA6-4006-B82B-6C945640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Y INFORMATION ANNUAL CONTAINER INSPE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09800" y="2630520"/>
          <a:ext cx="36576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2630520"/>
                    <a:ext cx="36576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502160" y="3740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7240" y="3968640"/>
            <a:ext cx="12960" cy="63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6880" y="36640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7440" y="3664080"/>
            <a:ext cx="29232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1280" y="335916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8600" y="3367080"/>
            <a:ext cx="45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2986200"/>
            <a:ext cx="56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d 6/10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257800"/>
            <a:ext cx="38862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, Office of Security, Eastern Regional Security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Granby Street, Room 4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folk, VA. 23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57) 441-3431/3415/36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5F3-77C5-47F8-9781-4F290AE82B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of Classified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“burn bags” to collect classified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 them as any classifi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includes:  paper, floppy disks, typewriter or printer ribbons, carbon pap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edding (*cross-cut using a GSA approved shredder for TS, Secret, and Confidential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verify cross-cut with Servicing Securit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508A-8B78-4F97-981D-5C1AA03462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 (cont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ting, chemical decomposition, mutil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Servicing Security Officer when using other than “burning” or “shredding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E6F-7B10-4357-A18A-02AD32683A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LASSIFIED DOCUMENTS FOR PROPER MAR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ified document should be mar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/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, ma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ssification instru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5241960"/>
            <a:ext cx="401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: E.O. 12958, Sect 1.9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challen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perly marked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from other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14158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00880" y="16444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18730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67360" y="21016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3302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3115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27320" y="234648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8737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7320" y="592776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7600" y="16034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67680" y="3575160"/>
            <a:ext cx="225360" cy="237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15080" y="3841920"/>
            <a:ext cx="41256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2520" y="2765520"/>
            <a:ext cx="290232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OM:  DS/ISP/AP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:        INR/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:  REQUEST FOR INFORMATION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(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 (S)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viewgraph shows individuals wh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portion marking looks lik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 (S)  A portion marking should always prece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ext within a para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 Other agencies put their portion markings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 of their paragraphs, however is not the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thin the Department of State (U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601040" y="3225600"/>
            <a:ext cx="723960" cy="927000"/>
          </a:xfrm>
          <a:prstGeom prst="triangle">
            <a:avLst>
              <a:gd name="adj" fmla="val 49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62840" y="3321000"/>
            <a:ext cx="863640" cy="71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56080" y="3446640"/>
            <a:ext cx="643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(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6720000">
            <a:off x="4163400" y="3286080"/>
            <a:ext cx="752400" cy="857160"/>
          </a:xfrm>
          <a:prstGeom prst="triangle">
            <a:avLst>
              <a:gd name="adj" fmla="val 49986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29800" y="3149640"/>
            <a:ext cx="992520" cy="711000"/>
            <a:chOff x="3529800" y="3149640"/>
            <a:chExt cx="992520" cy="711000"/>
          </a:xfrm>
        </p:grpSpPr>
        <p:sp>
          <p:nvSpPr>
            <p:cNvPr id="255" name=""/>
            <p:cNvSpPr/>
            <p:nvPr/>
          </p:nvSpPr>
          <p:spPr>
            <a:xfrm>
              <a:off x="3564000" y="3149640"/>
              <a:ext cx="920520" cy="71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29800" y="3255840"/>
              <a:ext cx="992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600" spc="-1" strike="noStrike">
                  <a:solidFill>
                    <a:srgbClr val="ff0033"/>
                  </a:solidFill>
                  <a:latin typeface="Arial"/>
                </a:rPr>
                <a:t>(S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81600" y="5345280"/>
            <a:ext cx="1258920" cy="630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08600" y="5427720"/>
            <a:ext cx="12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CLASSIFIED BY:  M.Stevens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irector, 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REASON:  1.5(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ECLASSIFY ON:  2/17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08800" y="6391440"/>
            <a:ext cx="30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080" y="20606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60840" y="185112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4000" y="13748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DE83-F017-4F77-AFDE-4868B2482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FIED WORKING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7280" y="1736640"/>
            <a:ext cx="7701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d working papers are drafts, notes, photograph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reate or assist in the preparation of a fina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ated and signed when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arked with highest classification level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which they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rotected in accordance with the assig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estroy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ccounted for and controlled if transmit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ly filed, or retained after 18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244440"/>
          <a:ext cx="1893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4440"/>
                    <a:ext cx="1893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EFD-6208-4D00-866C-0B89B50017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ER 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40" y="2147760"/>
            <a:ext cx="874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hat all classified documents and files sto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security container have the appropriate cover she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8560" y="1584360"/>
            <a:ext cx="16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6400" y="4064040"/>
            <a:ext cx="1797120" cy="234936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73600" y="4064040"/>
            <a:ext cx="1797120" cy="23493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0440" y="4064040"/>
            <a:ext cx="1797120" cy="234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816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7440" y="436896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70760" y="4383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0760" y="583092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3720" y="47196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82840" y="51102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79120" y="580248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49120" y="466884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52920" y="505944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724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2280" y="434484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72280" y="585000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21560" y="4687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5000" y="5078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1840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30400" y="43704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30400" y="58500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26240" y="646128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30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02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60" y="152388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C33-F1D3-4A9E-BA0A-16A9A80121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652320" y="2171880"/>
          <a:ext cx="4237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171880"/>
                    <a:ext cx="4237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567400" y="2162160"/>
            <a:ext cx="3306600" cy="3384720"/>
          </a:xfrm>
          <a:custGeom>
            <a:avLst/>
            <a:gdLst/>
            <a:ahLst/>
            <a:rect l="l" t="t" r="r" b="b"/>
            <a:pathLst>
              <a:path w="2083" h="2132">
                <a:moveTo>
                  <a:pt x="1" y="84"/>
                </a:moveTo>
                <a:lnTo>
                  <a:pt x="2" y="71"/>
                </a:lnTo>
                <a:lnTo>
                  <a:pt x="5" y="59"/>
                </a:lnTo>
                <a:lnTo>
                  <a:pt x="10" y="45"/>
                </a:lnTo>
                <a:lnTo>
                  <a:pt x="17" y="36"/>
                </a:lnTo>
                <a:lnTo>
                  <a:pt x="27" y="24"/>
                </a:lnTo>
                <a:lnTo>
                  <a:pt x="36" y="16"/>
                </a:lnTo>
                <a:lnTo>
                  <a:pt x="51" y="7"/>
                </a:lnTo>
                <a:lnTo>
                  <a:pt x="67" y="0"/>
                </a:lnTo>
                <a:lnTo>
                  <a:pt x="2022" y="0"/>
                </a:lnTo>
                <a:lnTo>
                  <a:pt x="2035" y="4"/>
                </a:lnTo>
                <a:lnTo>
                  <a:pt x="2047" y="10"/>
                </a:lnTo>
                <a:lnTo>
                  <a:pt x="2060" y="21"/>
                </a:lnTo>
                <a:lnTo>
                  <a:pt x="2070" y="32"/>
                </a:lnTo>
                <a:lnTo>
                  <a:pt x="2077" y="44"/>
                </a:lnTo>
                <a:lnTo>
                  <a:pt x="2082" y="60"/>
                </a:lnTo>
                <a:lnTo>
                  <a:pt x="2082" y="2023"/>
                </a:lnTo>
                <a:lnTo>
                  <a:pt x="2080" y="2041"/>
                </a:lnTo>
                <a:lnTo>
                  <a:pt x="2075" y="2062"/>
                </a:lnTo>
                <a:lnTo>
                  <a:pt x="2067" y="2078"/>
                </a:lnTo>
                <a:lnTo>
                  <a:pt x="2055" y="2091"/>
                </a:lnTo>
                <a:lnTo>
                  <a:pt x="2040" y="2101"/>
                </a:lnTo>
                <a:lnTo>
                  <a:pt x="2022" y="2107"/>
                </a:lnTo>
                <a:lnTo>
                  <a:pt x="243" y="2107"/>
                </a:lnTo>
                <a:lnTo>
                  <a:pt x="243" y="2131"/>
                </a:lnTo>
                <a:lnTo>
                  <a:pt x="140" y="2131"/>
                </a:lnTo>
                <a:lnTo>
                  <a:pt x="0" y="1978"/>
                </a:lnTo>
                <a:lnTo>
                  <a:pt x="1" y="84"/>
                </a:lnTo>
              </a:path>
            </a:pathLst>
          </a:custGeom>
          <a:solidFill>
            <a:srgbClr val="114ff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62680" y="2163600"/>
            <a:ext cx="2444760" cy="193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4800" y="2773440"/>
            <a:ext cx="231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By:  Ambassador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Reason:  1.5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Declassify On:  September 20 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Property Of:  AMEmbassy Vi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Office of D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8880" y="220500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35960" y="2419200"/>
            <a:ext cx="20016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19800" y="4486320"/>
            <a:ext cx="2087640" cy="1008000"/>
            <a:chOff x="6319800" y="4486320"/>
            <a:chExt cx="2087640" cy="1008000"/>
          </a:xfrm>
        </p:grpSpPr>
        <p:sp>
          <p:nvSpPr>
            <p:cNvPr id="305" name=""/>
            <p:cNvSpPr/>
            <p:nvPr/>
          </p:nvSpPr>
          <p:spPr>
            <a:xfrm>
              <a:off x="6319800" y="4486320"/>
              <a:ext cx="2087640" cy="1008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4240" y="4486320"/>
              <a:ext cx="398520" cy="10033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561000" y="4610160"/>
            <a:ext cx="344520" cy="7700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41520" y="17762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8960" y="2311560"/>
            <a:ext cx="29210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83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6360" y="23572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2080" y="1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39040" y="198360"/>
            <a:ext cx="503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ED DISK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19080" y="662040"/>
            <a:ext cx="8737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DISKETTES AND ME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" y="990720"/>
            <a:ext cx="9140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8D7-593D-43A2-B551-E9654FE07B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03440" y="40464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d Compact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724120"/>
          <a:ext cx="338472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24120"/>
                    <a:ext cx="338472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059360" y="2260440"/>
            <a:ext cx="4146480" cy="408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9200" y="2330280"/>
            <a:ext cx="4006800" cy="3949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0320" y="3892680"/>
            <a:ext cx="8445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8920" y="4102200"/>
            <a:ext cx="387360" cy="40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17640" y="2617920"/>
            <a:ext cx="3231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United States of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partment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AMEMBASSY PAR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Telegrams from 01/01/92 to 12/31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3881160" y="407340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5400000">
            <a:off x="6891120" y="407196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50480" y="5113440"/>
            <a:ext cx="32374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CLASSIFIED BY:  DAS W.Jones, A Bur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REASON:  1.5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CLASSIFY ON:  X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9800" y="3130560"/>
            <a:ext cx="18543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8840" y="5843520"/>
            <a:ext cx="114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Impact"/>
              </a:rPr>
              <a:t>CN  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320" y="1203480"/>
            <a:ext cx="7841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0" y="12193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54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445-FE72-4EE3-84F1-16B765619D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ATION CHANG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placed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ndividual knowing the combination no longer requires access to the 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mbination has been subjected to possible compromis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taken out of service (reset to standard combination 50-25-50 (10-20-30 for padlo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BA3-43E4-4B8E-9AFC-6404535926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Do no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tore these items with classifie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s/ammu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.e., Special Agents, Investig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elr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311520" y="3416400"/>
            <a:ext cx="870120" cy="482400"/>
          </a:xfrm>
          <a:prstGeom prst="rect">
            <a:avLst/>
          </a:prstGeom>
          <a:noFill/>
          <a:ln w="25560">
            <a:solidFill>
              <a:srgbClr val="ff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105520" y="2462040"/>
          <a:ext cx="13604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62040"/>
                    <a:ext cx="13604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172200" y="3884760"/>
          <a:ext cx="181764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884760"/>
                    <a:ext cx="181764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411880" y="2820960"/>
            <a:ext cx="2589120" cy="228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0" y="19051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B34-D205-4E0E-BF81-6EB6B1CAEC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all classified info to appropriate security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all typewriter ribbons, floppy disks, carbons, and working materials containing classified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or destroy classified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wastebaskets &amp; recycle containers do not contain N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check security container(s)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oors &amp; windows to the area are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9C9-51A2-47FF-A19D-9F20D9D49A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know your Security Point of Contac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908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33560" y="2895120"/>
            <a:ext cx="5181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Security Offi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57) 441-34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 Ruhle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. Regional Security Offi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ax (757) 441-34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5AC-8EE5-404E-B41A-1026E3A4C5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 ignition keys (CIKs) are removed from STU-III equipment and properly safeguarded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rms (if in place) are activated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D15-07B3-4505-B164-04CF3513CA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 OF THE DA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Activity Security Checklist,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x to a door immediately adjacent to the office 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responsible for end-of-day security checks must thoroughly check entire work area(s) where classified information is processed, handled, discussed, and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e the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AA1-46B8-4A98-900C-28F73F4FCB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YOU COMPLETE CONTAINER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720" y="2300400"/>
            <a:ext cx="881856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ustodian certifies compliance and signs t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(All discrepancies are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gional servicing security officer and correct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Bureau/Unit Heads verifies compliance and sign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98280"/>
          <a:ext cx="8460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8280"/>
                    <a:ext cx="8460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924680" y="928800"/>
          <a:ext cx="1040040" cy="18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928800"/>
                    <a:ext cx="1040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4D2-AF56-4656-A6F9-DD23FF7F46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3640" y="404640"/>
            <a:ext cx="273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943280" y="1204920"/>
          <a:ext cx="527040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204920"/>
                    <a:ext cx="52704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429000" y="1676520"/>
            <a:ext cx="2209680" cy="824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&amp; 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81600" y="318960"/>
            <a:ext cx="441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0" y="114300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5440" y="3657600"/>
            <a:ext cx="1920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S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34B-6C0C-4928-A448-612050BE7D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or to the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7680" y="1889280"/>
            <a:ext cx="834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dian’s are required to conduct a security container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 and certify compliance with DOC Policy DAO 20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81200" y="4800600"/>
          <a:ext cx="365616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4800600"/>
                    <a:ext cx="36561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7760" y="160020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1776-39A4-4BAE-A4D7-3658073D43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tect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ional Security Information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S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560" y="1889280"/>
            <a:ext cx="770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ational Securit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I is official information that relates to national defens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relations and is the property of the U.S. Governme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i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classificat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7680" y="4046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3759120"/>
            <a:ext cx="1797120" cy="234972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5000" y="3759120"/>
            <a:ext cx="1797120" cy="23497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1840" y="3759120"/>
            <a:ext cx="1797120" cy="23497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40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956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8840" y="406404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2160" y="40784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2160" y="5526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5120" y="441468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4240" y="480528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0520" y="549756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20520" y="4363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4320" y="4754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9864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3680" y="40402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3680" y="55450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92960" y="43830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6400" y="47736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8980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800" y="40654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55450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7640" y="61563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44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16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C24-9EC7-4769-882A-E1A0ED3495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Order 12958, Classified National Secur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Directive for E.O. 12958,  32 CFR PART 2001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 207-1, Information Security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95600" y="228600"/>
          <a:ext cx="106020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5600" y="228600"/>
                    <a:ext cx="106020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105520" y="533520"/>
          <a:ext cx="2243160" cy="18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33520"/>
                    <a:ext cx="224316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4D8-0EC4-4176-8D20-EC3A5E4F28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SECURITY CONTAINER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1200" y="2879640"/>
            <a:ext cx="7517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SA Approved security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fe (Mosler, or Hamilton produc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9360" y="1889280"/>
            <a:ext cx="78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storage of classified national security information, i.e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ecret, Secret, or Confidential  You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17524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2792520"/>
          <a:ext cx="103176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92520"/>
                    <a:ext cx="10317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5720" y="304920"/>
          <a:ext cx="129060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4920"/>
                    <a:ext cx="12906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106-F5DE-411C-B6CF-8B59C251CC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r Security Container should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Information. (Completed and up-to-date).  MEMORIZE YOUR combination!!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Check Sheet. (Use every time open, closed, or check contain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/CLOSE 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(Used as a remin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 CD-48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lassified Document Control Record. (All Secret and Top Secret material stored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ainer MUST be logg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0840" y="16905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19720" y="2590920"/>
            <a:ext cx="3749400" cy="3072960"/>
            <a:chOff x="4419720" y="2590920"/>
            <a:chExt cx="3749400" cy="3072960"/>
          </a:xfrm>
        </p:grpSpPr>
        <p:sp>
          <p:nvSpPr>
            <p:cNvPr id="106" name=""/>
            <p:cNvSpPr/>
            <p:nvPr/>
          </p:nvSpPr>
          <p:spPr>
            <a:xfrm>
              <a:off x="6556320" y="4048920"/>
              <a:ext cx="313200" cy="127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3720" y="3101760"/>
              <a:ext cx="1595160" cy="2562120"/>
            </a:xfrm>
            <a:prstGeom prst="cube">
              <a:avLst>
                <a:gd name="adj" fmla="val 24986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15880" y="3597480"/>
              <a:ext cx="1044720" cy="4431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15880" y="468000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15880" y="513072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15040" y="3605400"/>
              <a:ext cx="703800" cy="246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94240" y="3597120"/>
              <a:ext cx="10803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6960" y="3778200"/>
              <a:ext cx="267120" cy="217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419720" y="3420360"/>
              <a:ext cx="1258920" cy="343440"/>
              <a:chOff x="4419720" y="3420360"/>
              <a:chExt cx="1258920" cy="343440"/>
            </a:xfrm>
          </p:grpSpPr>
          <p:sp>
            <p:nvSpPr>
              <p:cNvPr id="115" name=""/>
              <p:cNvSpPr/>
              <p:nvPr/>
            </p:nvSpPr>
            <p:spPr>
              <a:xfrm>
                <a:off x="4452840" y="3420360"/>
                <a:ext cx="1225800" cy="31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19720" y="3437280"/>
                <a:ext cx="11386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F-7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994000" y="3814560"/>
              <a:ext cx="275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15880" y="4093920"/>
              <a:ext cx="1044720" cy="488160"/>
            </a:xfrm>
            <a:prstGeom prst="cube">
              <a:avLst>
                <a:gd name="adj" fmla="val 2498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15880" y="4229280"/>
              <a:ext cx="90756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2000" y="4274280"/>
              <a:ext cx="129240" cy="12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8400" y="449604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828840" y="409068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28840" y="445140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490176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8400" y="535248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12280" y="4090680"/>
              <a:ext cx="136080" cy="134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3954960"/>
              <a:ext cx="273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7960" y="3730320"/>
              <a:ext cx="392760" cy="446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440" y="2590920"/>
              <a:ext cx="1246320" cy="31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4400" y="2604600"/>
              <a:ext cx="1224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F-7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9040" y="2902320"/>
              <a:ext cx="24840" cy="646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FCB-7F01-464E-83AD-75ECAE3DC8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9440" y="1014480"/>
            <a:ext cx="1673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7680" y="1765440"/>
            <a:ext cx="3994200" cy="450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6760" y="2044800"/>
            <a:ext cx="3473280" cy="42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7040" y="2044800"/>
            <a:ext cx="347364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3360" y="2108160"/>
            <a:ext cx="349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 CONTAINER CHECK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7040" y="2444760"/>
            <a:ext cx="3473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2432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9120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6120" y="24526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2720" y="2436840"/>
            <a:ext cx="579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OM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0240" y="2436840"/>
            <a:ext cx="5536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55920" y="2436840"/>
            <a:ext cx="794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AIN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2854440"/>
            <a:ext cx="3473640" cy="1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0160" y="2851200"/>
            <a:ext cx="1067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054240"/>
            <a:ext cx="34736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8320" y="3052800"/>
            <a:ext cx="337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  CERTIFY,  BY  MY  INITIALS  BELOW,  THAT  I  HAVE  OPEN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OSED  OR  CHECKED  THIS  SECURITY  CONTA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 ACCORDANCE  WITH  PERTINENT  AGENCY  REGU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 OPERATING  INSTRU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7040" y="3664080"/>
            <a:ext cx="34736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12880" y="3637080"/>
            <a:ext cx="696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ONTH/YE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7040" y="3921120"/>
            <a:ext cx="347364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7040" y="3921120"/>
            <a:ext cx="34920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9200" y="3921120"/>
            <a:ext cx="74916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20960" y="3921120"/>
            <a:ext cx="75888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2800" y="3921120"/>
            <a:ext cx="78732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17204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1680" y="3894120"/>
            <a:ext cx="23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1440" y="3989520"/>
            <a:ext cx="631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EN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3760" y="3989520"/>
            <a:ext cx="628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OS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46800" y="3989520"/>
            <a:ext cx="686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HECK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28000" y="3913200"/>
            <a:ext cx="754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UARD CHEC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(if require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73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97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124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99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4173480"/>
            <a:ext cx="0" cy="209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32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44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492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64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7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36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3408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2360" y="455292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080" y="4800600"/>
            <a:ext cx="347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2360" y="504828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529596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7040" y="553896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579924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5360" y="5610240"/>
            <a:ext cx="4116600" cy="782640"/>
          </a:xfrm>
          <a:custGeom>
            <a:avLst/>
            <a:gdLst/>
            <a:ahLst/>
            <a:rect l="l" t="t" r="r" b="b"/>
            <a:pathLst>
              <a:path w="2593" h="493">
                <a:moveTo>
                  <a:pt x="2592" y="492"/>
                </a:moveTo>
                <a:lnTo>
                  <a:pt x="6" y="492"/>
                </a:lnTo>
                <a:lnTo>
                  <a:pt x="0" y="18"/>
                </a:lnTo>
                <a:lnTo>
                  <a:pt x="168" y="234"/>
                </a:lnTo>
                <a:lnTo>
                  <a:pt x="493" y="18"/>
                </a:lnTo>
                <a:lnTo>
                  <a:pt x="577" y="234"/>
                </a:lnTo>
                <a:lnTo>
                  <a:pt x="722" y="0"/>
                </a:lnTo>
                <a:lnTo>
                  <a:pt x="968" y="234"/>
                </a:lnTo>
                <a:lnTo>
                  <a:pt x="1143" y="98"/>
                </a:lnTo>
                <a:lnTo>
                  <a:pt x="1293" y="271"/>
                </a:lnTo>
                <a:lnTo>
                  <a:pt x="1455" y="18"/>
                </a:lnTo>
                <a:lnTo>
                  <a:pt x="1648" y="234"/>
                </a:lnTo>
                <a:lnTo>
                  <a:pt x="1834" y="98"/>
                </a:lnTo>
                <a:lnTo>
                  <a:pt x="2117" y="234"/>
                </a:lnTo>
                <a:lnTo>
                  <a:pt x="2357" y="86"/>
                </a:lnTo>
                <a:lnTo>
                  <a:pt x="2592" y="295"/>
                </a:lnTo>
                <a:lnTo>
                  <a:pt x="2592" y="49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73000" y="36320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Y /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9080" y="4400640"/>
            <a:ext cx="63360" cy="125280"/>
          </a:xfrm>
          <a:custGeom>
            <a:avLst/>
            <a:gdLst/>
            <a:ahLst/>
            <a:rect l="l" t="t" r="r" b="b"/>
            <a:pathLst>
              <a:path w="40" h="79">
                <a:moveTo>
                  <a:pt x="15" y="0"/>
                </a:moveTo>
                <a:lnTo>
                  <a:pt x="15" y="9"/>
                </a:lnTo>
                <a:lnTo>
                  <a:pt x="15" y="18"/>
                </a:lnTo>
                <a:lnTo>
                  <a:pt x="12" y="27"/>
                </a:lnTo>
                <a:lnTo>
                  <a:pt x="9" y="36"/>
                </a:lnTo>
                <a:lnTo>
                  <a:pt x="18" y="39"/>
                </a:lnTo>
                <a:lnTo>
                  <a:pt x="27" y="39"/>
                </a:lnTo>
                <a:lnTo>
                  <a:pt x="33" y="48"/>
                </a:lnTo>
                <a:lnTo>
                  <a:pt x="39" y="57"/>
                </a:lnTo>
                <a:lnTo>
                  <a:pt x="39" y="66"/>
                </a:lnTo>
                <a:lnTo>
                  <a:pt x="39" y="75"/>
                </a:lnTo>
                <a:lnTo>
                  <a:pt x="30" y="78"/>
                </a:lnTo>
                <a:lnTo>
                  <a:pt x="21" y="78"/>
                </a:lnTo>
                <a:lnTo>
                  <a:pt x="12" y="78"/>
                </a:lnTo>
                <a:lnTo>
                  <a:pt x="3" y="72"/>
                </a:lnTo>
                <a:lnTo>
                  <a:pt x="0" y="6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7520" y="43959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05040" y="4357800"/>
            <a:ext cx="144360" cy="182520"/>
          </a:xfrm>
          <a:custGeom>
            <a:avLst/>
            <a:gdLst/>
            <a:ahLst/>
            <a:rect l="l" t="t" r="r" b="b"/>
            <a:pathLst>
              <a:path w="91" h="115">
                <a:moveTo>
                  <a:pt x="0" y="114"/>
                </a:moveTo>
                <a:lnTo>
                  <a:pt x="9" y="111"/>
                </a:lnTo>
                <a:lnTo>
                  <a:pt x="18" y="105"/>
                </a:lnTo>
                <a:lnTo>
                  <a:pt x="27" y="99"/>
                </a:lnTo>
                <a:lnTo>
                  <a:pt x="33" y="90"/>
                </a:lnTo>
                <a:lnTo>
                  <a:pt x="39" y="81"/>
                </a:lnTo>
                <a:lnTo>
                  <a:pt x="45" y="72"/>
                </a:lnTo>
                <a:lnTo>
                  <a:pt x="48" y="63"/>
                </a:lnTo>
                <a:lnTo>
                  <a:pt x="54" y="54"/>
                </a:lnTo>
                <a:lnTo>
                  <a:pt x="60" y="45"/>
                </a:lnTo>
                <a:lnTo>
                  <a:pt x="66" y="36"/>
                </a:lnTo>
                <a:lnTo>
                  <a:pt x="72" y="27"/>
                </a:lnTo>
                <a:lnTo>
                  <a:pt x="78" y="18"/>
                </a:lnTo>
                <a:lnTo>
                  <a:pt x="84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67040" y="440532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5560" y="440064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05000" y="441000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95720" y="442440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14600" y="4433760"/>
            <a:ext cx="54000" cy="106560"/>
          </a:xfrm>
          <a:custGeom>
            <a:avLst/>
            <a:gdLst/>
            <a:ahLst/>
            <a:rect l="l" t="t" r="r" b="b"/>
            <a:pathLst>
              <a:path w="34" h="67">
                <a:moveTo>
                  <a:pt x="18" y="0"/>
                </a:moveTo>
                <a:lnTo>
                  <a:pt x="9" y="3"/>
                </a:lnTo>
                <a:lnTo>
                  <a:pt x="3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6"/>
                </a:lnTo>
                <a:lnTo>
                  <a:pt x="21" y="63"/>
                </a:lnTo>
                <a:lnTo>
                  <a:pt x="27" y="54"/>
                </a:lnTo>
                <a:lnTo>
                  <a:pt x="30" y="45"/>
                </a:lnTo>
                <a:lnTo>
                  <a:pt x="33" y="36"/>
                </a:lnTo>
                <a:lnTo>
                  <a:pt x="33" y="27"/>
                </a:lnTo>
                <a:lnTo>
                  <a:pt x="27" y="18"/>
                </a:lnTo>
                <a:lnTo>
                  <a:pt x="24" y="9"/>
                </a:lnTo>
                <a:lnTo>
                  <a:pt x="15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476520" y="4433760"/>
            <a:ext cx="68400" cy="101880"/>
            <a:chOff x="3476520" y="4433760"/>
            <a:chExt cx="68400" cy="101880"/>
          </a:xfrm>
        </p:grpSpPr>
        <p:sp>
          <p:nvSpPr>
            <p:cNvPr id="191" name=""/>
            <p:cNvSpPr/>
            <p:nvPr/>
          </p:nvSpPr>
          <p:spPr>
            <a:xfrm>
              <a:off x="3476520" y="4433760"/>
              <a:ext cx="58680" cy="10188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18"/>
                  </a:lnTo>
                  <a:lnTo>
                    <a:pt x="33" y="27"/>
                  </a:lnTo>
                  <a:lnTo>
                    <a:pt x="30" y="36"/>
                  </a:lnTo>
                  <a:lnTo>
                    <a:pt x="24" y="45"/>
                  </a:lnTo>
                  <a:lnTo>
                    <a:pt x="21" y="54"/>
                  </a:lnTo>
                  <a:lnTo>
                    <a:pt x="18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0280" y="44863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9" y="16"/>
                  </a:lnTo>
                  <a:lnTo>
                    <a:pt x="18" y="16"/>
                  </a:lnTo>
                  <a:lnTo>
                    <a:pt x="27" y="1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562200" y="4433760"/>
            <a:ext cx="44640" cy="106560"/>
          </a:xfrm>
          <a:custGeom>
            <a:avLst/>
            <a:gdLst/>
            <a:ahLst/>
            <a:rect l="l" t="t" r="r" b="b"/>
            <a:pathLst>
              <a:path w="28" h="67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4" y="9"/>
                </a:lnTo>
                <a:lnTo>
                  <a:pt x="27" y="18"/>
                </a:lnTo>
                <a:lnTo>
                  <a:pt x="27" y="27"/>
                </a:lnTo>
                <a:lnTo>
                  <a:pt x="18" y="30"/>
                </a:lnTo>
                <a:lnTo>
                  <a:pt x="9" y="33"/>
                </a:lnTo>
                <a:lnTo>
                  <a:pt x="18" y="33"/>
                </a:lnTo>
                <a:lnTo>
                  <a:pt x="24" y="42"/>
                </a:lnTo>
                <a:lnTo>
                  <a:pt x="27" y="51"/>
                </a:lnTo>
                <a:lnTo>
                  <a:pt x="27" y="60"/>
                </a:lnTo>
                <a:lnTo>
                  <a:pt x="18" y="63"/>
                </a:lnTo>
                <a:lnTo>
                  <a:pt x="9" y="66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3840" y="4419720"/>
            <a:ext cx="68040" cy="120600"/>
          </a:xfrm>
          <a:custGeom>
            <a:avLst/>
            <a:gdLst/>
            <a:ahLst/>
            <a:rect l="l" t="t" r="r" b="b"/>
            <a:pathLst>
              <a:path w="43" h="76">
                <a:moveTo>
                  <a:pt x="24" y="0"/>
                </a:moveTo>
                <a:lnTo>
                  <a:pt x="15" y="3"/>
                </a:lnTo>
                <a:lnTo>
                  <a:pt x="9" y="12"/>
                </a:lnTo>
                <a:lnTo>
                  <a:pt x="3" y="21"/>
                </a:lnTo>
                <a:lnTo>
                  <a:pt x="3" y="30"/>
                </a:lnTo>
                <a:lnTo>
                  <a:pt x="3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9"/>
                </a:lnTo>
                <a:lnTo>
                  <a:pt x="21" y="72"/>
                </a:lnTo>
                <a:lnTo>
                  <a:pt x="30" y="75"/>
                </a:lnTo>
                <a:lnTo>
                  <a:pt x="36" y="66"/>
                </a:lnTo>
                <a:lnTo>
                  <a:pt x="42" y="57"/>
                </a:lnTo>
                <a:lnTo>
                  <a:pt x="42" y="48"/>
                </a:lnTo>
                <a:lnTo>
                  <a:pt x="42" y="39"/>
                </a:lnTo>
                <a:lnTo>
                  <a:pt x="42" y="30"/>
                </a:lnTo>
                <a:lnTo>
                  <a:pt x="42" y="21"/>
                </a:lnTo>
                <a:lnTo>
                  <a:pt x="33" y="15"/>
                </a:lnTo>
                <a:lnTo>
                  <a:pt x="24" y="9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432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86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09960" y="442908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181400" y="4433760"/>
            <a:ext cx="158760" cy="111240"/>
            <a:chOff x="4181400" y="4433760"/>
            <a:chExt cx="158760" cy="111240"/>
          </a:xfrm>
        </p:grpSpPr>
        <p:grpSp>
          <p:nvGrpSpPr>
            <p:cNvPr id="199" name=""/>
            <p:cNvGrpSpPr/>
            <p:nvPr/>
          </p:nvGrpSpPr>
          <p:grpSpPr>
            <a:xfrm>
              <a:off x="4205160" y="4443480"/>
              <a:ext cx="68400" cy="101520"/>
              <a:chOff x="4205160" y="4443480"/>
              <a:chExt cx="68400" cy="10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4205160" y="4443480"/>
                <a:ext cx="5904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0" y="0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30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8" y="63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29280" y="449568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9" y="16"/>
                    </a:lnTo>
                    <a:lnTo>
                      <a:pt x="18" y="16"/>
                    </a:lnTo>
                    <a:lnTo>
                      <a:pt x="27" y="16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86160" y="4433760"/>
              <a:ext cx="54000" cy="10656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18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0" y="45"/>
                  </a:lnTo>
                  <a:lnTo>
                    <a:pt x="33" y="36"/>
                  </a:lnTo>
                  <a:lnTo>
                    <a:pt x="33" y="27"/>
                  </a:lnTo>
                  <a:lnTo>
                    <a:pt x="27" y="18"/>
                  </a:lnTo>
                  <a:lnTo>
                    <a:pt x="24" y="9"/>
                  </a:lnTo>
                  <a:lnTo>
                    <a:pt x="15" y="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1400" y="443880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8" y="9"/>
                  </a:lnTo>
                  <a:lnTo>
                    <a:pt x="8" y="18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16" y="45"/>
                  </a:lnTo>
                  <a:lnTo>
                    <a:pt x="16" y="54"/>
                  </a:lnTo>
                  <a:lnTo>
                    <a:pt x="16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357800" y="443376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18" y="0"/>
                </a:moveTo>
                <a:lnTo>
                  <a:pt x="12" y="9"/>
                </a:lnTo>
                <a:lnTo>
                  <a:pt x="6" y="18"/>
                </a:lnTo>
                <a:lnTo>
                  <a:pt x="3" y="27"/>
                </a:lnTo>
                <a:lnTo>
                  <a:pt x="3" y="36"/>
                </a:lnTo>
                <a:lnTo>
                  <a:pt x="0" y="45"/>
                </a:lnTo>
                <a:lnTo>
                  <a:pt x="0" y="54"/>
                </a:lnTo>
                <a:lnTo>
                  <a:pt x="6" y="63"/>
                </a:lnTo>
                <a:lnTo>
                  <a:pt x="15" y="66"/>
                </a:lnTo>
                <a:lnTo>
                  <a:pt x="24" y="66"/>
                </a:lnTo>
                <a:lnTo>
                  <a:pt x="33" y="66"/>
                </a:lnTo>
                <a:lnTo>
                  <a:pt x="42" y="63"/>
                </a:lnTo>
                <a:lnTo>
                  <a:pt x="45" y="54"/>
                </a:lnTo>
                <a:lnTo>
                  <a:pt x="48" y="45"/>
                </a:lnTo>
                <a:lnTo>
                  <a:pt x="48" y="36"/>
                </a:lnTo>
                <a:lnTo>
                  <a:pt x="42" y="27"/>
                </a:lnTo>
                <a:lnTo>
                  <a:pt x="33" y="24"/>
                </a:lnTo>
                <a:lnTo>
                  <a:pt x="33" y="15"/>
                </a:lnTo>
                <a:lnTo>
                  <a:pt x="21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5480" y="4410000"/>
            <a:ext cx="7272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9320" y="441468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lnTo>
                  <a:pt x="0" y="9"/>
                </a:lnTo>
                <a:lnTo>
                  <a:pt x="0" y="18"/>
                </a:lnTo>
                <a:lnTo>
                  <a:pt x="0" y="27"/>
                </a:lnTo>
                <a:lnTo>
                  <a:pt x="0" y="36"/>
                </a:lnTo>
                <a:lnTo>
                  <a:pt x="0" y="45"/>
                </a:lnTo>
                <a:lnTo>
                  <a:pt x="0" y="54"/>
                </a:lnTo>
                <a:lnTo>
                  <a:pt x="16" y="63"/>
                </a:lnTo>
                <a:lnTo>
                  <a:pt x="16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6480" y="44197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4424400"/>
            <a:ext cx="1440" cy="106200"/>
          </a:xfrm>
          <a:custGeom>
            <a:avLst/>
            <a:gdLst/>
            <a:ahLst/>
            <a:rect l="l" t="t" r="r" b="b"/>
            <a:pathLst>
              <a:path w="1" h="67">
                <a:moveTo>
                  <a:pt x="0" y="0"/>
                </a:moveTo>
                <a:lnTo>
                  <a:pt x="0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0760" y="442908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48" y="9"/>
                </a:lnTo>
                <a:lnTo>
                  <a:pt x="45" y="18"/>
                </a:lnTo>
                <a:lnTo>
                  <a:pt x="42" y="27"/>
                </a:lnTo>
                <a:lnTo>
                  <a:pt x="39" y="36"/>
                </a:lnTo>
                <a:lnTo>
                  <a:pt x="33" y="45"/>
                </a:lnTo>
                <a:lnTo>
                  <a:pt x="30" y="54"/>
                </a:lnTo>
                <a:lnTo>
                  <a:pt x="27" y="63"/>
                </a:lnTo>
                <a:lnTo>
                  <a:pt x="24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91120" y="4429080"/>
            <a:ext cx="92160" cy="111240"/>
          </a:xfrm>
          <a:custGeom>
            <a:avLst/>
            <a:gdLst/>
            <a:ahLst/>
            <a:rect l="l" t="t" r="r" b="b"/>
            <a:pathLst>
              <a:path w="58" h="70">
                <a:moveTo>
                  <a:pt x="6" y="0"/>
                </a:moveTo>
                <a:lnTo>
                  <a:pt x="15" y="0"/>
                </a:lnTo>
                <a:lnTo>
                  <a:pt x="24" y="0"/>
                </a:lnTo>
                <a:lnTo>
                  <a:pt x="33" y="0"/>
                </a:lnTo>
                <a:lnTo>
                  <a:pt x="42" y="9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6" y="54"/>
                </a:lnTo>
                <a:lnTo>
                  <a:pt x="27" y="60"/>
                </a:lnTo>
                <a:lnTo>
                  <a:pt x="18" y="66"/>
                </a:lnTo>
                <a:lnTo>
                  <a:pt x="9" y="69"/>
                </a:lnTo>
                <a:lnTo>
                  <a:pt x="0" y="69"/>
                </a:lnTo>
                <a:lnTo>
                  <a:pt x="3" y="60"/>
                </a:lnTo>
                <a:lnTo>
                  <a:pt x="12" y="57"/>
                </a:lnTo>
                <a:lnTo>
                  <a:pt x="21" y="57"/>
                </a:lnTo>
                <a:lnTo>
                  <a:pt x="30" y="60"/>
                </a:lnTo>
                <a:lnTo>
                  <a:pt x="39" y="69"/>
                </a:lnTo>
                <a:lnTo>
                  <a:pt x="48" y="69"/>
                </a:lnTo>
                <a:lnTo>
                  <a:pt x="57" y="6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6520" y="4429080"/>
            <a:ext cx="77760" cy="63720"/>
          </a:xfrm>
          <a:custGeom>
            <a:avLst/>
            <a:gdLst/>
            <a:ahLst/>
            <a:rect l="l" t="t" r="r" b="b"/>
            <a:pathLst>
              <a:path w="49" h="40">
                <a:moveTo>
                  <a:pt x="6" y="0"/>
                </a:moveTo>
                <a:lnTo>
                  <a:pt x="6" y="9"/>
                </a:lnTo>
                <a:lnTo>
                  <a:pt x="6" y="18"/>
                </a:lnTo>
                <a:lnTo>
                  <a:pt x="3" y="27"/>
                </a:lnTo>
                <a:lnTo>
                  <a:pt x="0" y="36"/>
                </a:lnTo>
                <a:lnTo>
                  <a:pt x="12" y="39"/>
                </a:lnTo>
                <a:lnTo>
                  <a:pt x="21" y="39"/>
                </a:lnTo>
                <a:lnTo>
                  <a:pt x="30" y="39"/>
                </a:lnTo>
                <a:lnTo>
                  <a:pt x="39" y="39"/>
                </a:lnTo>
                <a:lnTo>
                  <a:pt x="48" y="3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43400" y="442440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06760" y="262584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OS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45280" y="2619360"/>
            <a:ext cx="675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5th Flo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09280" y="2625840"/>
            <a:ext cx="50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SA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8320" y="2619360"/>
            <a:ext cx="569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1234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75080" y="39528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0" y="15238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0" y="1919160"/>
            <a:ext cx="21387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94440" y="2271600"/>
            <a:ext cx="1311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9880" y="1706400"/>
            <a:ext cx="237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OF SF 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242-E583-4161-851F-654A7592EA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44000" y="152280"/>
            <a:ext cx="7119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Container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90720"/>
            <a:ext cx="9142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480" y="1052640"/>
            <a:ext cx="84816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 a thorough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f your security container.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Determine if you have a continuous use/need for the each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Review ALL classified holdings for possible downgr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declassification under E.O 12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ropriate classified cover sheets att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ly mark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 and Top Secret materials are recor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Classified Material Control Inventory Form CD-4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/Top Secret materials selecte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ion are recorded on the form CD-481 and are destroyed by approved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854840" y="0"/>
          <a:ext cx="119088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4840" y="0"/>
                    <a:ext cx="11908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920" y="0"/>
          <a:ext cx="11905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0"/>
                    <a:ext cx="1190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5A9-8AC5-4B3E-AC78-2CD241A0CB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rroll Ward</dc:creator>
  <dc:description/>
  <dc:language>en-US</dc:language>
  <cp:lastModifiedBy>Carroll.R.Ward</cp:lastModifiedBy>
  <cp:lastPrinted>1997-10-10T17:39:42Z</cp:lastPrinted>
  <dcterms:modified xsi:type="dcterms:W3CDTF">2008-06-10T18:52:57Z</dcterms:modified>
  <cp:revision>60</cp:revision>
  <dc:subject/>
  <dc:title>HOW TO MANAGE  YOUR SECURITY CONTAINER</dc:title>
</cp:coreProperties>
</file>