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C1B-3B18-4B22-B994-A43008FC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0CF-094B-4C5D-9B3F-54522740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9211-BEA4-4B7B-BDF2-8B8B1531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987-AFC3-446A-BAC4-A06B1530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F38A-1347-4CAA-92C1-255D5DBC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0A4E-CBB0-4460-97C4-666743FB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35BB-03A3-40C0-814D-55791E71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469C-E8D2-48CA-97B8-F98ED097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2DA1-9850-4877-A6AA-320038F0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1411-DF5E-442D-8A8F-379DD072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BC4B-A1A1-468C-9EB5-67FC2ACF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BF3E-8DF5-4F80-AF3F-339A12B4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F957-08E1-44C0-A61C-B3A2EDB3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69E1-6465-416E-980A-11C942EE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6657-336D-4FFA-9731-47B44661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7B3C-84C7-4AAC-BB37-A07756CF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3B08-AD88-42F4-AC25-9CAC7011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941-578F-4A89-A427-049BB554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877-DCAF-4A9A-A317-23B5F415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0A8-D359-4FBA-BA29-6EB77E1B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6B6-6118-4FCA-A54D-36D75993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BDE-2221-4A6D-AEC0-C6AD2F64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8841-50FC-4F40-B2D9-DCD15BDD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00D-134C-4383-92BA-ACD75AE7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D7C2-5D29-4BD8-85DA-3550C1C5F2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5026-927A-41E2-80EA-09F52441C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partment of Commerc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ffice of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 Educati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esher Brief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Mark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Only (old NOFORN): do not release to foreign natio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CON: Originator contro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ed Data/Formerly Restrict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le via ____ Chann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document is unclassified when classified attachments are remov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classif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uments are marked for automatic declassification within ten years unl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cument is exempt from automatic declassification at 10 years under E.O. 12958.  Additional reviews at 10 and 5 year interv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lassified documents are declassified at 25 years (with a few exceptions). No document series at Commerce are exemp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ountability of Classifi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for Secret and Top Secr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form CD481 (will be switched to a computer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who, what, when, where, h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ual inventory is required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878360" y="1981080"/>
          <a:ext cx="3362400" cy="41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8360" y="1981080"/>
                    <a:ext cx="3362400" cy="41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ountability cont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ual review must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of classified hold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ation of what classified is still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disposal of unneeded docu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108400" y="1981080"/>
          <a:ext cx="2901960" cy="41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8400" y="1981080"/>
                    <a:ext cx="2901960" cy="41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orage of Materi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sitive, FOUO, Privacy Act, proprietary information must be stored under one level of lock (desk, drawer, file cabine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ed information must be stored in a GSA approved security container (safe)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that each safe should have a SF700, SF702 and open/closed 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bin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 container must contain an accurate SF-7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ations are classified at the level of information in the saf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always be memorized; never write them d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share with anyone who does not need to know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binations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 your security container combination whe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ainer is found open and unat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one who has the combination le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feel the combination has been compromi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security container is taken out of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ol and Ac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are responsible for protecting and controlling classified inform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must limit access to authorized persons by verifying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-to-Kn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8320" y="2570040"/>
          <a:ext cx="382248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70040"/>
                    <a:ext cx="38224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mission of Classified Information: Telephone/Fax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use a STU III phone or f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 and cell phones are not sec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re a secure phone in your office?  If not, where is the nearest on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648320" y="2798640"/>
          <a:ext cx="3822480" cy="24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798640"/>
                    <a:ext cx="38224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mission of Classified Information: Double Wrapp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be done to prepare for hand carry, courier, or US Pos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ords 2 layers of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s against dam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paque envel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forget a recei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er wrapping: full addr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ification markings top/bottom and front/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and receipt placed in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Clear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being rebriefed because you hold a security clearanc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, a security clearance is not permanent; it expires when you leave your pos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SF-312 Non-Disclosure Agreement is still in effect.  It is a life long agreement between you and the U.S.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mission of Classified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er Wrapp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address of 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return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LASSIFICATION MARK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mend that you put “If undeliverable, return to sende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mission of Classified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nd Top Secret: call your security offic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 and Confid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-ca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oved cour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 Postal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Carry: No overnight stay without proper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ircraft overs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rier: check author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Post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ret: Regist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dential: Certified, Express or First cla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uter Secur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 not process classified unless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have contacted your information technology represen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computer has a removable hard dr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in a stand-alone configuration (no modem/network unless accredi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48320" y="2241720"/>
          <a:ext cx="382248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41720"/>
                    <a:ext cx="382248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production of Classified Informa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ous ways to reproduce classified inform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per (photocopi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means (video and/or casset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pproved equipment for that purp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 for your copi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production of Classified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ved photocopi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in controlled 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have mem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sanitized after classified copies are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serviced by cleared personnel or service personnel are monitored while repairs are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your security officer if your copier jams while working with class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truction of Classified and Sensitive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ed material de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ning (at an approved facil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redding (using an approved cross cut shred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mall classified waste “burn bag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types (FOUO, Privacy Act, SBU, etc.)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BU should be shredded using cross cut shredder.  At a minimum tear up other ty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seas Trav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5800" y="2576520"/>
          <a:ext cx="382284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76520"/>
                    <a:ext cx="382284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your security officer for a briefing before you 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bring class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 sensitive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fy U.S. Embassy of your vi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porting Requir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employees must report contact with a foreign national wh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s classified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s more information than they need to kn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s suspiciou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incidents to your security officer immediat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nd of Day Che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ecurity contai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/do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k tops for class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 the SF701 “Activity Security Checklist.” The office manager is responsible for implementing the SF 701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48320" y="1989000"/>
          <a:ext cx="382248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9000"/>
                    <a:ext cx="38224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our Security Offic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security officer is there to help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to your security offic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urity vio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s or compromise of classified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urity incidents or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11720" y="1981080"/>
          <a:ext cx="2695680" cy="41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1720" y="1981080"/>
                    <a:ext cx="2695680" cy="41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roper Disclosure: Penal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Pl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ance Rating/A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imands/Suspensions (Without Pa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s of monetary gains made from improper disclo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s of security cl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ination of employ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minal prosecution (prison/fi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n You Depart Comme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are leaving the Department, you mus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 over all classified material to your classified control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 debriefed by your Security Offi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 in all keys, ID, and access c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19720" y="1981080"/>
          <a:ext cx="2479680" cy="41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9720" y="1981080"/>
                    <a:ext cx="2479680" cy="41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ally…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responsible for security at the Department of Commer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!   Have a secure day!  Remember, SECURITY MATTE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EPARTMENT OF COMMERCE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FFICE OF SECURITY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EASTERN REG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1337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roll Ward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astern Regional Security Offic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57) 441-343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m Ruhl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tern Regional Asst. Security Offi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57) 441-3415/36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x (757) 441-34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hre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we protect classified inform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espionage is on the 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ligence needs are economic as well as milit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/former adversaries and our allies are conducting intelligence activities against 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hreat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forget the insid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erintelligence is your responsibil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suspicious activities to your Security Officer immediat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48320" y="2319480"/>
          <a:ext cx="382248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9480"/>
                    <a:ext cx="382248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rking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 and/or subject should be mar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graphs and sub-paragraph must be mar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lustrations and pictures al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ll classification is determined by the highest portion mar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 classification on top/bottom of every p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rking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ttom of the document should have the follow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ed by: Jack Smith, Director, O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 for Classification: 1.5 (d) E.O. 1295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ssify on: 1 June 2007 or x1-8 (exemp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rivative Mar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derivatively classifying a document, the bottom right corner of the should ha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 by: Carroll Ward, DOC, O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 from: CIP Terrorism Report, 3/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ssify on: 3/1/07 (or x1-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rivative Marking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erivatively classifying a document using multiple sources, either list each source or list “multiple sources” and maintain a list of the sources on file cop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ways use the most stringent declassification d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source is marked OADR, list “Source marked OADR” and list date of docu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30T13:42:50Z</dcterms:created>
  <dc:creator/>
  <dc:description/>
  <dc:language>en-US</dc:language>
  <cp:lastModifiedBy>Carroll.R.Ward</cp:lastModifiedBy>
  <cp:lastPrinted>1997-10-17T18:30:43Z</cp:lastPrinted>
  <dcterms:modified xsi:type="dcterms:W3CDTF">2008-06-10T19:53:59Z</dcterms:modified>
  <cp:revision>13</cp:revision>
  <dc:subject/>
  <dc:title>NSI REBRIEF</dc:title>
</cp:coreProperties>
</file>