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6FD-69C1-4E5C-B1F4-E5E985AF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17A-5788-447E-9A5C-4297551D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07B-5B71-4DA0-BC4C-668D2AE1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17C-DF6A-492B-B943-ACFC31F3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364B-603A-4623-9F25-E8FE9F89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830F-59C1-4060-B3A4-D7D3ED96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D73B-729D-47A6-A743-C6B34B55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D644-A508-40AF-86C0-84785E5B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926A-F8F0-483D-BD60-E47EF9E2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E2BA-2DB4-4885-9B8D-B725CEEC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41A5-91DF-4422-B0AC-25319DC0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AA9-E7F4-4061-A47A-0F2D57A6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2C50-4E85-4304-A98F-4C80179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F874-B465-4E78-AD56-39B45E38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D393-DE6E-40F1-AD99-1499EBE8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3062-C4B9-4134-9FC7-4D1422D4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4EF0-D540-455E-83D6-CD085479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7D6-6176-4123-9361-7D81F58C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D0C-7E53-4A2D-A8F0-B820CD7B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BDC-241F-4EEB-ACAD-FE2B9B85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4C3-0405-47F5-B870-C2503AAC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B30-C756-4885-BDEB-A0A562C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5C8-0F51-4990-AC52-024C35C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43A-5778-404E-B9DF-BBCD7CDB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F3D4-42F4-4ED3-955D-1FF9B4BBD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D833-25A4-4235-A422-B8740B71423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WORKPLACE VIOLENC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43400" y="3505320"/>
            <a:ext cx="45705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ARROLL WARD EASTERN  REGIONAL SECURITY OFFICER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57-441-3431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X: 757-441-3422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CVC, FBI ACADEM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Ki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Rap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place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tressors are the s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O COMMITS WORKPLACE VIOLENCE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040" y="24382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r 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OFILE”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THERE IS NO PROFIL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TTERNS AND PROFIL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patterns rather than individual warning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es can help identify potential problems However, they are not all inclusive or exclu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DICATORS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- 50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Violent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imidates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ubstance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DICATORS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ssed with guns, gun maga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ed in past acts of violence in the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open or veiled th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ssed with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DICATORS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440" y="23623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n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take criti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s a gru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DO SOME ACT OUT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391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NO  SUPPORT 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MEN AS PERPETRATOR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22860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ggr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ught not to seek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666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30 - 40 % COMMIT SUICIDE OR “SUICIDE BY COP”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FINITION OF WORKPLACE VIOLE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place violence is any physical assualt, threatening behavior, or verbal abuse occurring in the work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place my be any location either permanent or temporary where an employee performs any work-related d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CAN AN ORGANIZATION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employees for downs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humane termination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job skill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BETTER USE OF </a:t>
            </a:r>
            <a:br>
              <a:rPr sz="4800"/>
            </a:b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PRE-SCREENING AND</a:t>
            </a:r>
            <a:br>
              <a:rPr sz="4800"/>
            </a:b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BACKGROUND INVESTIGATIONS</a:t>
            </a:r>
            <a:br>
              <a:rPr sz="4800"/>
            </a:b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ECURITY OFFICER’S ROL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DUCATE THE WORKFOR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Workplace violence can and does happ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UPERVISORS ROL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prepared to listen to employee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y Human Resources of potential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organization E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y Security of potential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EPARE A RESPONSE PL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past in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potential for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prepare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VELOP A RESPONSE TE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Assistance Perso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Specia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Professio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Po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DON’T EMPOYEES REPORT SUSPICIONS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23623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r of becoming a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r of retal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ant to get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21932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WORKPLACE VIOLENCE IS BECOMING AN EPIDEMIC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52480" y="1981080"/>
            <a:ext cx="6782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ESTION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TS OF WORKPLACE VIOLE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avated 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tamp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o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i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acts committed during robb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S WORKPLACE VIOLENCE AN EPIDEMIC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C SAYS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has reached “epidemic propor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1,000 violent incidents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0 - 1,000 workplace homicides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ORKPLACE VIOLE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second leading cause of death in the workplace ove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ading cause of death in the workplace for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ut of 20 women will be the victim of a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CAUSES VIOLENT ACTS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gruntled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usional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SGRUNTLED EMPLOYE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Ten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ssor causes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of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OMESTIC DISTURBA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266688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Violence spills over into the workpl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LUSIONAL PERS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1625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s against perceived to be 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nnection to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1:15:56Z</dcterms:created>
  <dc:creator>Carroll Ward</dc:creator>
  <dc:description/>
  <dc:language>en-US</dc:language>
  <cp:lastModifiedBy>Carroll Ward</cp:lastModifiedBy>
  <dcterms:modified xsi:type="dcterms:W3CDTF">2002-09-12T19:27:04Z</dcterms:modified>
  <cp:revision>9</cp:revision>
  <dc:subject/>
  <dc:title>WORKPLACE VIOLENCE</dc:title>
</cp:coreProperties>
</file>