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0E01-FA06-4075-A4C5-6507D73BA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3066-3C73-4C16-AD0B-3C690E639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B1D0-EADE-4A95-9B75-D6043B512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E18E-D6BB-43E6-ADB4-4F07C41E8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20E65-5125-4B49-B85A-843FB1B9C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77BA9-A8DC-4F30-A0B2-E119B1F94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10771-2DFC-4505-897E-37DEF6284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49456-D00D-46D0-B1BC-DFA7C8D2A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D1ABC-538F-4977-8F01-7D835EC8F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D2F70-C6DA-4843-8F48-EAC2513B2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BEE7E-2F30-4FFB-9AF6-F555E224A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5CEE-4BE6-4726-A8D5-3E88AD965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45EFF-B6C3-4C47-A2CC-D682A49B9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2EFC3-5AD6-45BB-BD0B-C2A5A18AE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06B85-5BDF-4E13-8491-06CDE3529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50B86-A8CE-4D25-843A-A5F3EB67C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A4995-A4BB-4147-9235-BCF54B871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5888-43C1-4409-BBBF-DE26FC5C6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E586-0E17-4529-885C-B78DF0092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6652-6224-48AB-82C7-3119391B4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EC71-6483-46C7-A440-1536FC7DC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7756-9643-420D-8719-ABE8D4470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6867-F0AF-4AAB-9AD6-7FC16451D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8194-BB95-4A6E-BCB8-08D63CD4F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86321-D9E9-4B8C-8377-1362E09787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0ABFD-9681-4219-93B3-4E71A1A43E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AIL BOMB RECOGNI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rroll R. War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gional Security Offic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757) 441-343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934320" y="4038480"/>
            <a:ext cx="1663560" cy="2286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685800" y="533520"/>
            <a:ext cx="301464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OK FOR THE UNUSU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13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ALWAYS ERR ON THE SIDE OF YOUR SAFETY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OC/OSY Eastern Regional Security Office Staff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rroll Ward, - Security Office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757) 441-343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m Ruhlen - Asst. Security Office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757) 441-341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ish Neunz - Security Assistan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757) 441-362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ax (757) 441-342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OMMON CHARACTERISTICS OF LETTER &amp; PARCEL BOMB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YPE OF MAIL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EIGN, PRIOROTIY, SPECIAL DELIVE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STRICTIVE MARKING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FIDENTIAL, PERSONAL, TO BE OPENED BY ADDRESSEE ON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OMMON CHARACTERISTIC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ISUAL DISTRACTION: FRAGILE, RUSH, HANDLE WITH CA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ECESSIVE POSTAGE (USUALLY POSTAGE STAMP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OMMON CHARACTERISITIC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CTICIOUS OR NO RETURN ADDR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ORLY TYPED OR HANDWRITTEN ADDR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CORRECT TIT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OMMON CHARACTERISTIC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ITLES BUT NO NAM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SSPELLINGS OF COMMON WO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ILY STAINS OR DISCOLOR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OMMON CHARACTERISTIC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CESSIVE OR UNEVEN WEIGHT DISTRIBU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ECESSIVE BINDING MATERIAL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SKING, ELECTRIC OR STRAPPING TAPE, STRING, TWI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OMMON CHARACTERISTIC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IGID, LOPSIDED OR UNEVEN ENVELOP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TRUDING WIRES, SCREWS OR OTHER METAL PAR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STMARK DIFFERENT FROM RETUN ADR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OPER ACTION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 NOT ATTEMPT TO OPEN PACK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LL 91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LL REGIONAL SECURITY OFFI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OPER ACTION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OLATE THE PACKAG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VACUATE THE IMMEDIATE ARE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07T14:06:22Z</dcterms:created>
  <dc:creator/>
  <dc:description/>
  <dc:language>en-US</dc:language>
  <cp:lastModifiedBy>Carroll.R.Ward</cp:lastModifiedBy>
  <dcterms:modified xsi:type="dcterms:W3CDTF">2008-06-10T19:38:25Z</dcterms:modified>
  <cp:revision>7</cp:revision>
  <dc:subject/>
  <dc:title>MAIL BOMB RECOGNITION</dc:title>
</cp:coreProperties>
</file>