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8959850" cy="6721475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7BF7-9BA7-4B1A-8460-48E24274F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B016-F828-401F-B393-5B21F9B24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31D6-6860-4824-BCAA-1844C0AB4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1227-0D7A-4492-AD7E-B98465D19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9DE6-552B-4BE6-AAD6-41B5DC876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2BA6-C2A6-487F-9B35-76DD24345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4CD6-6D4B-481F-8BC6-DC566E84B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1BBA-B275-4A88-9B7C-9A32B906E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4D54-665C-40DD-A962-55062BE50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A5DC-D341-4936-82A8-FF0A3D013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C9EF-0DEF-4CA6-A395-622059156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A809-F9B5-42E4-8ABF-4A158C4FF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4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7" name="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" name="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CF10-62B8-4F20-B658-750FC8BA57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Working Draft" hidden="1"/>
          <p:cNvSpPr/>
          <p:nvPr/>
        </p:nvSpPr>
        <p:spPr>
          <a:xfrm rot="5400000">
            <a:off x="8028720" y="2772360"/>
            <a:ext cx="172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6/1/2012 4:17:57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inted" hidden="1"/>
          <p:cNvSpPr/>
          <p:nvPr/>
        </p:nvSpPr>
        <p:spPr>
          <a:xfrm rot="5400000">
            <a:off x="8382240" y="385200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5/31/2012 2:00:21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rcRect l="6775" t="0" r="11232" b="25902"/>
          <a:stretch/>
        </p:blipFill>
        <p:spPr>
          <a:xfrm>
            <a:off x="7408800" y="223920"/>
            <a:ext cx="132408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39880" y="2133360"/>
            <a:ext cx="49356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52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king Draft" hidden="1"/>
          <p:cNvSpPr/>
          <p:nvPr/>
        </p:nvSpPr>
        <p:spPr>
          <a:xfrm>
            <a:off x="2634120" y="498600"/>
            <a:ext cx="297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6/1/2012 4:17:57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inted" hidden="1"/>
          <p:cNvSpPr/>
          <p:nvPr/>
        </p:nvSpPr>
        <p:spPr>
          <a:xfrm>
            <a:off x="1463400" y="655560"/>
            <a:ext cx="271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5/31/2012 2:00:21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6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McK Disclaimer" hidden="1"/>
            <p:cNvSpPr/>
            <p:nvPr/>
          </p:nvSpPr>
          <p:spPr>
            <a:xfrm>
              <a:off x="2639880" y="5896800"/>
              <a:ext cx="440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y use of this material without specific permission of McKinsey &amp; Company is strictly prohibi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3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5843520" y="741240"/>
            <a:ext cx="2908080" cy="5891760"/>
            <a:chOff x="5843520" y="741240"/>
            <a:chExt cx="2908080" cy="5891760"/>
          </a:xfrm>
        </p:grpSpPr>
        <p:sp>
          <p:nvSpPr>
            <p:cNvPr id="102" name=""/>
            <p:cNvSpPr/>
            <p:nvPr/>
          </p:nvSpPr>
          <p:spPr>
            <a:xfrm>
              <a:off x="5843520" y="741240"/>
              <a:ext cx="2908080" cy="5891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43520" y="741240"/>
              <a:ext cx="2908080" cy="5891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rm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9160" y="9000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Delta Tentative Agreement: Pilot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17760" y="1677960"/>
            <a:ext cx="166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2: 4%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3: 8.5%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: 3%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5: 3%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7760" y="1003320"/>
            <a:ext cx="2921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osed changes to Delta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65160" y="1398600"/>
            <a:ext cx="1236600" cy="7905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pen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5160" y="2629080"/>
            <a:ext cx="1236600" cy="7905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rk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65160" y="3963960"/>
            <a:ext cx="1236600" cy="7905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gional 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65160" y="5122800"/>
            <a:ext cx="1236600" cy="7905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52600" y="1254240"/>
            <a:ext cx="418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07040" y="1019160"/>
            <a:ext cx="23637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son to WN 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22800" y="1255680"/>
            <a:ext cx="24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1640" y="2514600"/>
            <a:ext cx="6919920" cy="1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1640" y="3827520"/>
            <a:ext cx="6919920" cy="1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1640" y="5019840"/>
            <a:ext cx="6919920" cy="1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7760" y="2568600"/>
            <a:ext cx="398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9000"/>
          </a:bodyPr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ine value (ALV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72-84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reserve guarantee: from 70 to 72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reserve: from ALV to 80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 Pay: 75% to 100% pay 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Max/Day: 9-13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840" indent="-7776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l Max/Day: 15 hours max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17760" y="3970440"/>
            <a:ext cx="3049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lvl="1" marL="92520" indent="-914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 seat aircraft cap at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520" indent="-914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seat aircraft cap at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520" indent="-914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eat aircraft cap at 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520" indent="-914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520" indent="-9144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regional cap: 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50880" y="5070600"/>
            <a:ext cx="4037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9000"/>
          </a:bodyPr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ain international premium: $6 to $6.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 international premium: $4 to $4.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ation pay: from 3 to 3.5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per diem: $2 to $2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per diem: $2.50 to $2.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 bank: 50 - 270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20" indent="-66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20% profit sharing without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15160" y="2581200"/>
            <a:ext cx="26510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verage lin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reserve guarantee: 87 T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reserve: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 pay: 100% pay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Max/Day: 11-15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5120" indent="-1036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national max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15160" y="3970440"/>
            <a:ext cx="27860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ap on aircraft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5160" y="5070600"/>
            <a:ext cx="26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1000"/>
          </a:bodyPr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l premi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ation pay: Minimum 3.75 TFP to scheduled TFP before va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per diem: $2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 Bank: Max of 1600 TF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3% matching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0" indent="-4608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3" idx="0"/>
            <a:endCxn id="123" idx="1"/>
          </p:cNvCxnSpPr>
          <p:nvPr/>
        </p:nvCxnSpPr>
        <p:spPr>
          <a:xfrm>
            <a:off x="5158440" y="7920"/>
            <a:ext cx="360" cy="3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25" name=""/>
          <p:cNvCxnSpPr>
            <a:stCxn id="123" idx="2"/>
            <a:endCxn id="123" idx="3"/>
          </p:cNvCxnSpPr>
          <p:nvPr/>
        </p:nvCxnSpPr>
        <p:spPr>
          <a:xfrm>
            <a:off x="5158440" y="7920"/>
            <a:ext cx="360" cy="1954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1463760" y="13701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%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9320" y="135900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op FO B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32400" y="1359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op Cap B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71760" y="1677960"/>
            <a:ext cx="16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8.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39.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43.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48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1677960"/>
            <a:ext cx="114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88.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04.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0.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16.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26040" y="13590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op FO B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69120" y="1359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op Cap B7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08840" y="1677960"/>
            <a:ext cx="166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54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46880" y="1677960"/>
            <a:ext cx="114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20.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304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McK 5. Source"/>
          <p:cNvSpPr/>
          <p:nvPr/>
        </p:nvSpPr>
        <p:spPr>
          <a:xfrm>
            <a:off x="119160" y="648648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otnote: Average line value is the monthly flying average per pil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1FEB-2925-4232-A9D5-C47633F1C8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3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9520" y="1125360"/>
            <a:ext cx="8516880" cy="519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aptain Wage Scales Comparis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0"/>
            <a:endCxn id="140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42" name=""/>
          <p:cNvCxnSpPr>
            <a:stCxn id="140" idx="2"/>
            <a:endCxn id="140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209520" y="712800"/>
            <a:ext cx="8516880" cy="39384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cK 5. Source"/>
          <p:cNvSpPr/>
          <p:nvPr/>
        </p:nvSpPr>
        <p:spPr>
          <a:xfrm>
            <a:off x="119160" y="648648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Delta Airlines Tentative Agreement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N uses standard 1.16 TFP to Hourly convers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25200" y="824040"/>
            <a:ext cx="134676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37-700/800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7760" y="752760"/>
            <a:ext cx="7267320" cy="383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ptain wage sc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 per hour, not adjusted for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88880" y="1433520"/>
          <a:ext cx="8321760" cy="498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433520"/>
                    <a:ext cx="832176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17480" y="154764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7480" y="307188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7480" y="460548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7480" y="192888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7480" y="346248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7480" y="498636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7480" y="422424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7480" y="384336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7480" y="536724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7480" y="574848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7480" y="269064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7480" y="230976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2600" y="336708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2600" y="297648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2600" y="259560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2600" y="145260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2600" y="565308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600" y="183348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2600" y="451008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2600" y="374796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2600" y="221472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2600" y="527220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2600" y="489096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2600" y="412920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24680" y="426420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24680" y="367524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24680" y="24940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24680" y="197496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24680" y="154152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24680" y="12034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A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527960" y="4125960"/>
            <a:ext cx="731880" cy="303120"/>
            <a:chOff x="7527960" y="4125960"/>
            <a:chExt cx="731880" cy="303120"/>
          </a:xfrm>
        </p:grpSpPr>
        <p:sp>
          <p:nvSpPr>
            <p:cNvPr id="180" name=""/>
            <p:cNvSpPr/>
            <p:nvPr/>
          </p:nvSpPr>
          <p:spPr>
            <a:xfrm>
              <a:off x="7527960" y="4125960"/>
              <a:ext cx="731880" cy="30312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8200" y="4138560"/>
              <a:ext cx="6710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8431200" y="2835000"/>
            <a:ext cx="0" cy="85860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527960" y="3103560"/>
            <a:ext cx="731880" cy="303120"/>
            <a:chOff x="7527960" y="3103560"/>
            <a:chExt cx="731880" cy="303120"/>
          </a:xfrm>
        </p:grpSpPr>
        <p:sp>
          <p:nvSpPr>
            <p:cNvPr id="184" name=""/>
            <p:cNvSpPr/>
            <p:nvPr/>
          </p:nvSpPr>
          <p:spPr>
            <a:xfrm>
              <a:off x="7527960" y="3103560"/>
              <a:ext cx="731880" cy="30312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58200" y="3116160"/>
              <a:ext cx="6710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527960" y="2379600"/>
            <a:ext cx="731880" cy="303120"/>
            <a:chOff x="7527960" y="2379600"/>
            <a:chExt cx="731880" cy="303120"/>
          </a:xfrm>
        </p:grpSpPr>
        <p:sp>
          <p:nvSpPr>
            <p:cNvPr id="187" name=""/>
            <p:cNvSpPr/>
            <p:nvPr/>
          </p:nvSpPr>
          <p:spPr>
            <a:xfrm>
              <a:off x="7527960" y="2379600"/>
              <a:ext cx="731880" cy="30312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58200" y="2392200"/>
              <a:ext cx="6710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527960" y="1898640"/>
            <a:ext cx="731880" cy="303120"/>
            <a:chOff x="7527960" y="1898640"/>
            <a:chExt cx="731880" cy="303120"/>
          </a:xfrm>
        </p:grpSpPr>
        <p:sp>
          <p:nvSpPr>
            <p:cNvPr id="190" name=""/>
            <p:cNvSpPr/>
            <p:nvPr/>
          </p:nvSpPr>
          <p:spPr>
            <a:xfrm>
              <a:off x="7527960" y="1898640"/>
              <a:ext cx="731880" cy="30312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8200" y="1911240"/>
              <a:ext cx="6710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8431200" y="4024440"/>
            <a:ext cx="0" cy="45072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431200" y="2361960"/>
            <a:ext cx="0" cy="33012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431200" y="1879200"/>
            <a:ext cx="0" cy="33012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6880" y="588312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ure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527960" y="1550880"/>
            <a:ext cx="731880" cy="243000"/>
            <a:chOff x="7527960" y="1550880"/>
            <a:chExt cx="731880" cy="243000"/>
          </a:xfrm>
        </p:grpSpPr>
        <p:sp>
          <p:nvSpPr>
            <p:cNvPr id="197" name=""/>
            <p:cNvSpPr/>
            <p:nvPr/>
          </p:nvSpPr>
          <p:spPr>
            <a:xfrm>
              <a:off x="7527960" y="1550880"/>
              <a:ext cx="731880" cy="2430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8200" y="1560960"/>
              <a:ext cx="67104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V="1">
            <a:off x="8431200" y="1561680"/>
            <a:ext cx="11160" cy="21132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F43C-8450-4DE1-A1F8-FCA0F37BE9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20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9520" y="1125360"/>
            <a:ext cx="8516880" cy="519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First Officer Wage Scales Comparis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4" idx="0"/>
            <a:endCxn id="204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06" name=""/>
          <p:cNvCxnSpPr>
            <a:stCxn id="204" idx="2"/>
            <a:endCxn id="204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209520" y="712800"/>
            <a:ext cx="8516880" cy="39384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McK 5. Source"/>
          <p:cNvSpPr/>
          <p:nvPr/>
        </p:nvSpPr>
        <p:spPr>
          <a:xfrm>
            <a:off x="119160" y="648648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Delta Airlines Tentative Agreement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N uses standard 1.16 TFP to Hourly convers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25200" y="824040"/>
            <a:ext cx="134676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37-700/800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760" y="752760"/>
            <a:ext cx="7267320" cy="383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rst Officer wage sc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 per hour, not adjusted for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88880" y="1444680"/>
          <a:ext cx="8321760" cy="498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444680"/>
                    <a:ext cx="832176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717480" y="31021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7480" y="28735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7480" y="26449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7480" y="35496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7480" y="37782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7480" y="21877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7480" y="19591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7480" y="33210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7480" y="17305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7480" y="241632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7480" y="44640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7480" y="40068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7480" y="49212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7480" y="51498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7480" y="53784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7480" y="56070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7480" y="58356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7480" y="46926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7480" y="4235400"/>
            <a:ext cx="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2600" y="345456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2600" y="30067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2600" y="25495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2600" y="20923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2600" y="16351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57405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2600" y="322596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2600" y="27781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2600" y="23209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2600" y="18637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2600" y="368316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2600" y="391176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1403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43689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45975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48261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50547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52833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5511960"/>
            <a:ext cx="19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05520" y="267660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05520" y="241776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5520" y="196056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05520" y="175896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5520" y="152892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05520" y="12160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A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291440" y="2706840"/>
            <a:ext cx="538200" cy="228600"/>
            <a:chOff x="7291440" y="2706840"/>
            <a:chExt cx="538200" cy="228600"/>
          </a:xfrm>
        </p:grpSpPr>
        <p:sp>
          <p:nvSpPr>
            <p:cNvPr id="258" name=""/>
            <p:cNvSpPr/>
            <p:nvPr/>
          </p:nvSpPr>
          <p:spPr>
            <a:xfrm>
              <a:off x="7291440" y="2706840"/>
              <a:ext cx="538200" cy="2286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13760" y="2716200"/>
              <a:ext cx="4935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291440" y="2357280"/>
            <a:ext cx="538200" cy="263520"/>
            <a:chOff x="7291440" y="2357280"/>
            <a:chExt cx="538200" cy="263520"/>
          </a:xfrm>
        </p:grpSpPr>
        <p:sp>
          <p:nvSpPr>
            <p:cNvPr id="261" name=""/>
            <p:cNvSpPr/>
            <p:nvPr/>
          </p:nvSpPr>
          <p:spPr>
            <a:xfrm>
              <a:off x="7291440" y="2357280"/>
              <a:ext cx="538200" cy="26352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13760" y="2368080"/>
              <a:ext cx="4935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291440" y="1809720"/>
            <a:ext cx="538200" cy="214200"/>
            <a:chOff x="7291440" y="1809720"/>
            <a:chExt cx="538200" cy="214200"/>
          </a:xfrm>
        </p:grpSpPr>
        <p:sp>
          <p:nvSpPr>
            <p:cNvPr id="264" name=""/>
            <p:cNvSpPr/>
            <p:nvPr/>
          </p:nvSpPr>
          <p:spPr>
            <a:xfrm>
              <a:off x="7291440" y="1809720"/>
              <a:ext cx="538200" cy="2142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13760" y="1818360"/>
              <a:ext cx="4935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>
            <a:off x="8099280" y="2709720"/>
            <a:ext cx="0" cy="20016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6880" y="588312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ure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8099280" y="2263320"/>
            <a:ext cx="0" cy="34452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088480" y="1796760"/>
            <a:ext cx="0" cy="17604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088480" y="2023920"/>
            <a:ext cx="0" cy="17640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291440" y="2011320"/>
            <a:ext cx="538200" cy="214200"/>
            <a:chOff x="7291440" y="2011320"/>
            <a:chExt cx="538200" cy="214200"/>
          </a:xfrm>
        </p:grpSpPr>
        <p:sp>
          <p:nvSpPr>
            <p:cNvPr id="272" name=""/>
            <p:cNvSpPr/>
            <p:nvPr/>
          </p:nvSpPr>
          <p:spPr>
            <a:xfrm>
              <a:off x="7291440" y="2011320"/>
              <a:ext cx="538200" cy="2142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13760" y="2019960"/>
              <a:ext cx="4935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291440" y="1563840"/>
            <a:ext cx="538200" cy="228600"/>
            <a:chOff x="7291440" y="1563840"/>
            <a:chExt cx="538200" cy="228600"/>
          </a:xfrm>
        </p:grpSpPr>
        <p:sp>
          <p:nvSpPr>
            <p:cNvPr id="275" name=""/>
            <p:cNvSpPr/>
            <p:nvPr/>
          </p:nvSpPr>
          <p:spPr>
            <a:xfrm>
              <a:off x="7291440" y="1563840"/>
              <a:ext cx="538200" cy="2286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13760" y="1573200"/>
              <a:ext cx="4935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rm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V="1">
            <a:off x="8099280" y="1566720"/>
            <a:ext cx="0" cy="20016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9734-2FD8-4603-A33A-A898C3C4DD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40:43Z</dcterms:created>
  <dc:creator>Virginia Casas</dc:creator>
  <dc:description/>
  <dc:language>en-US</dc:language>
  <cp:lastModifiedBy>Paul Yoo</cp:lastModifiedBy>
  <cp:lastPrinted>2012-05-31T19:00:26Z</cp:lastPrinted>
  <dcterms:modified xsi:type="dcterms:W3CDTF">2012-06-01T21:17:57Z</dcterms:modified>
  <cp:revision>283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Title</vt:lpwstr>
  </property>
  <property fmtid="{D5CDD505-2E9C-101B-9397-08002B2CF9AE}" pid="12" name="Universal Objects">
    <vt:bool>1</vt:bool>
  </property>
</Properties>
</file>