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7080" y="580680"/>
            <a:ext cx="5438880" cy="407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2"/>
          </p:nvPr>
        </p:nvSpPr>
        <p:spPr>
          <a:xfrm>
            <a:off x="6199200" y="8902440"/>
            <a:ext cx="55080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250BC4-A111-4A78-9E82-9F6DBD51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3"/>
          </p:nvPr>
        </p:nvSpPr>
        <p:spPr>
          <a:xfrm>
            <a:off x="6454800" y="96840"/>
            <a:ext cx="295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D4A358-C381-418C-974C-E59DD747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8EBA9C-FC5C-4AFF-BE00-5A725A1D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D5B76A-6939-41D1-A90B-81CE8123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E35C0B-40C6-43F1-A347-F953C854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57080" y="581040"/>
            <a:ext cx="5438880" cy="407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63400" y="4981320"/>
            <a:ext cx="59184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199200" y="89038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C67C80-7D7F-448E-8DFD-185DF482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2CC8-0B0E-4D36-80BE-EE807573B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3201-570E-4391-9AA7-3F2A7993F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029B-D6E6-4B83-8E57-0C9F2F67A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74D1-EC4E-4874-82F1-9BDAC6D51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DCA1-64D3-4A9F-B78B-48832CD57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526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0700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61760" y="2589480"/>
            <a:ext cx="13849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5068-6AE9-4D16-858D-978E0781F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588B-9F03-4930-9ACF-7B6D9BC91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9502-EA3B-4E99-B709-46E44123B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701352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BD19-3FAE-4B87-995D-7DB97402D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7D4B-3C6B-448C-A41F-C8AD63EDB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57240" y="258948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7977-A571-4420-8883-C7FA02A6C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2600" y="2589480"/>
            <a:ext cx="430200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6D62-E696-4D14-B8F1-6A6FBE6D4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4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7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016B-C38B-4BF5-9B11-335B8D063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Working Draft" hidden="1"/>
          <p:cNvSpPr/>
          <p:nvPr/>
        </p:nvSpPr>
        <p:spPr>
          <a:xfrm rot="5400000">
            <a:off x="8007480" y="277272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rking Draft - Last Modified 7/16/2012 5:54:19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inted" hidden="1"/>
          <p:cNvSpPr/>
          <p:nvPr/>
        </p:nvSpPr>
        <p:spPr>
          <a:xfrm rot="5400000">
            <a:off x="8403840" y="3852360"/>
            <a:ext cx="975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inted 7/9/2012 8:00:53 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doc id"/>
          <p:cNvSpPr/>
          <p:nvPr/>
        </p:nvSpPr>
        <p:spPr>
          <a:xfrm>
            <a:off x="8082000" y="36360"/>
            <a:ext cx="657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99" descr="southwest"/>
          <p:cNvPicPr/>
          <p:nvPr/>
        </p:nvPicPr>
        <p:blipFill>
          <a:blip r:embed="rId2"/>
          <a:srcRect l="6775" t="0" r="11232" b="25902"/>
          <a:stretch/>
        </p:blipFill>
        <p:spPr>
          <a:xfrm>
            <a:off x="7408800" y="223920"/>
            <a:ext cx="132408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king Draft Text" hidden="1"/>
          <p:cNvSpPr/>
          <p:nvPr/>
        </p:nvSpPr>
        <p:spPr>
          <a:xfrm>
            <a:off x="2639880" y="343080"/>
            <a:ext cx="98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ING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king Draft" hidden="1"/>
          <p:cNvSpPr/>
          <p:nvPr/>
        </p:nvSpPr>
        <p:spPr>
          <a:xfrm>
            <a:off x="2602080" y="498600"/>
            <a:ext cx="3035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st Modified 7/16/2012 5:54:19 P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inted" hidden="1"/>
          <p:cNvSpPr/>
          <p:nvPr/>
        </p:nvSpPr>
        <p:spPr>
          <a:xfrm>
            <a:off x="1495440" y="655560"/>
            <a:ext cx="26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nted 7/9/2012 8:00:53 AM Central Standard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McK Title Elements"/>
          <p:cNvGrpSpPr/>
          <p:nvPr/>
        </p:nvGrpSpPr>
        <p:grpSpPr>
          <a:xfrm>
            <a:off x="0" y="0"/>
            <a:ext cx="8958240" cy="6723000"/>
            <a:chOff x="0" y="0"/>
            <a:chExt cx="8958240" cy="6723000"/>
          </a:xfrm>
        </p:grpSpPr>
        <p:sp>
          <p:nvSpPr>
            <p:cNvPr id="55" name="McK Document type" hidden="1"/>
            <p:cNvSpPr/>
            <p:nvPr/>
          </p:nvSpPr>
          <p:spPr>
            <a:xfrm>
              <a:off x="263988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McK Date" hidden="1"/>
            <p:cNvSpPr/>
            <p:nvPr/>
          </p:nvSpPr>
          <p:spPr>
            <a:xfrm>
              <a:off x="263988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McK Disclaimer" hidden="1"/>
            <p:cNvSpPr/>
            <p:nvPr/>
          </p:nvSpPr>
          <p:spPr>
            <a:xfrm>
              <a:off x="2639880" y="6018480"/>
              <a:ext cx="440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DENTIAL AND PROPRIET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itleBottomPlaceholder" hidden="1"/>
            <p:cNvSpPr/>
            <p:nvPr/>
          </p:nvSpPr>
          <p:spPr>
            <a:xfrm>
              <a:off x="0" y="2238480"/>
              <a:ext cx="2193840" cy="448452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leTopPlaceholder" hidden="1"/>
            <p:cNvSpPr/>
            <p:nvPr/>
          </p:nvSpPr>
          <p:spPr>
            <a:xfrm>
              <a:off x="0" y="0"/>
              <a:ext cx="2193840" cy="223848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89" hidden="1"/>
            <p:cNvSpPr/>
            <p:nvPr/>
          </p:nvSpPr>
          <p:spPr>
            <a:xfrm>
              <a:off x="0" y="0"/>
              <a:ext cx="8958240" cy="6721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TitleBottomBarBW" descr=""/>
          <p:cNvPicPr/>
          <p:nvPr/>
        </p:nvPicPr>
        <p:blipFill>
          <a:blip r:embed="rId2"/>
          <a:stretch/>
        </p:blipFill>
        <p:spPr>
          <a:xfrm>
            <a:off x="7174080" y="6443640"/>
            <a:ext cx="163656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6440">
              <a:buClr>
                <a:srgbClr val="dd1e32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24360" indent="-185760">
              <a:buClr>
                <a:srgbClr val="dd1e32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35960" indent="-110520">
              <a:buClr>
                <a:srgbClr val="dd1e32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9560" indent="-92520">
              <a:buClr>
                <a:srgbClr val="dd1e32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9560" indent="-925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CF1-A6BA-4F04-B976-07AA0AE58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oday’s discussion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36680" y="1846440"/>
            <a:ext cx="6272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bjectives, long term roadmap, and ‘ground rul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203040">
              <a:lnSpc>
                <a:spcPct val="110000"/>
              </a:lnSpc>
              <a:buClr>
                <a:srgbClr val="dd1e32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1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lements of competitive landscape that we want to cover in th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EEA-C8D2-4A6B-8612-CA27738EC8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Objectives and long term roadmap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1287360" y="1563840"/>
            <a:ext cx="1995480" cy="83808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86" h="576">
                <a:moveTo>
                  <a:pt x="0" y="0"/>
                </a:moveTo>
                <a:lnTo>
                  <a:pt x="882" y="0"/>
                </a:lnTo>
                <a:lnTo>
                  <a:pt x="986" y="288"/>
                </a:lnTo>
                <a:lnTo>
                  <a:pt x="88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62240" y="1614600"/>
            <a:ext cx="16509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ign 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324972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48300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ee on detailed set of 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5072040" y="1563840"/>
            <a:ext cx="1857240" cy="838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0" h="576">
                <a:moveTo>
                  <a:pt x="0" y="0"/>
                </a:moveTo>
                <a:lnTo>
                  <a:pt x="886" y="0"/>
                </a:lnTo>
                <a:lnTo>
                  <a:pt x="990" y="288"/>
                </a:lnTo>
                <a:lnTo>
                  <a:pt x="886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321160" y="1614600"/>
            <a:ext cx="140976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joi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6862680" y="1563840"/>
            <a:ext cx="1973520" cy="83808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91" h="576">
                <a:moveTo>
                  <a:pt x="0" y="0"/>
                </a:moveTo>
                <a:lnTo>
                  <a:pt x="887" y="0"/>
                </a:lnTo>
                <a:lnTo>
                  <a:pt x="991" y="288"/>
                </a:lnTo>
                <a:lnTo>
                  <a:pt x="887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843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115040" y="1614600"/>
            <a:ext cx="1543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ointly solve how to meet go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59080" y="2906640"/>
            <a:ext cx="167328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on common fact base to use going forwar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verall Flight Ops C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to competitors (e.g., wage scales, BH per pilo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5024520" y="2906640"/>
            <a:ext cx="17589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specific financial targets to reach in both short- term and long-term (e.g., Flight Ops CASM of $X by 2015 and $Y by 202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939000" y="2906640"/>
            <a:ext cx="177480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 together to agree on path to meet financial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ntually translate high level concepts into contract language (need to decide when to transfer to Negotiating tea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1400" y="2870280"/>
            <a:ext cx="1092240" cy="489960"/>
          </a:xfrm>
          <a:prstGeom prst="rect">
            <a:avLst/>
          </a:prstGeom>
          <a:solidFill>
            <a:srgbClr val="61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303200" y="2851200"/>
            <a:ext cx="1795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162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ree on the specific competitive challenges we face (e.g., who are our main competitors, what are our sources of competitive advantage and disadvanta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78F-CE14-42B9-B622-712A945EEC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760" y="263160"/>
            <a:ext cx="81061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‘</a:t>
            </a: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Ground rules’ for this proces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6"/>
          <p:cNvCxnSpPr>
            <a:stCxn id="128" idx="0"/>
            <a:endCxn id="12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30" name="AutoShape 7"/>
          <p:cNvCxnSpPr>
            <a:stCxn id="128" idx="2"/>
            <a:endCxn id="12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31" name="Rectangle 14"/>
          <p:cNvSpPr/>
          <p:nvPr/>
        </p:nvSpPr>
        <p:spPr>
          <a:xfrm>
            <a:off x="563400" y="1481040"/>
            <a:ext cx="7856640" cy="446652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 not share any numbers or ideas from these sessions outside this room until mutually agreed (no publication to Members, Board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Keep these discussions small (6 people total, plus experts when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un all requests through this group. Let’s not go around each other to SWAPA analysts, FP&amp;A group, or others, unless we explicitly agree to engage th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Keep working operational issues through the Flight Ops department, so this group can stay focused on our long-term competitive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et’s put everything on the table—we need to be open with each other if we’re going to make prog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82C-EAA0-4548-B0FC-9B75A08A3F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2843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61840" y="1004760"/>
            <a:ext cx="331632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86364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Team roles and timing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158440" y="7920"/>
            <a:ext cx="3785040" cy="1951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</a:rPr>
              <a:t>CONFIDENTIAL. PRELIMINARY, FOR DISCUSSION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8"/>
          <p:cNvCxnSpPr>
            <a:stCxn id="138" idx="0"/>
            <a:endCxn id="138" idx="1"/>
          </p:cNvCxnSpPr>
          <p:nvPr/>
        </p:nvCxnSpPr>
        <p:spPr>
          <a:xfrm>
            <a:off x="5160600" y="7920"/>
            <a:ext cx="1080" cy="1958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140" name="AutoShape 9"/>
          <p:cNvCxnSpPr>
            <a:stCxn id="138" idx="2"/>
            <a:endCxn id="138" idx="3"/>
          </p:cNvCxnSpPr>
          <p:nvPr/>
        </p:nvCxnSpPr>
        <p:spPr>
          <a:xfrm>
            <a:off x="5160960" y="202680"/>
            <a:ext cx="37807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141" name="AutoShape 10"/>
          <p:cNvSpPr/>
          <p:nvPr/>
        </p:nvSpPr>
        <p:spPr>
          <a:xfrm>
            <a:off x="922320" y="1244520"/>
            <a:ext cx="30243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710240" y="1004760"/>
            <a:ext cx="3333600" cy="571680"/>
          </a:xfrm>
          <a:prstGeom prst="rect">
            <a:avLst/>
          </a:prstGeom>
          <a:solidFill>
            <a:srgbClr val="617dbd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711680" y="1565280"/>
            <a:ext cx="3332160" cy="461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17dbd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4770360" y="1244520"/>
            <a:ext cx="3252960" cy="2746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006560" y="1847880"/>
            <a:ext cx="2843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B—Facili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WAPA analy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9"/>
          <p:cNvSpPr/>
          <p:nvPr/>
        </p:nvSpPr>
        <p:spPr>
          <a:xfrm>
            <a:off x="4818240" y="1847880"/>
            <a:ext cx="2842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ther week for 1-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spcBef>
                <a:spcPts val="224"/>
              </a:spcBef>
              <a:buClr>
                <a:srgbClr val="617dbd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o schedule these out for the next several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8DBA-7CBB-4771-A0D6-9C3806D8B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701352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dd1e32"/>
                </a:solidFill>
                <a:latin typeface="Arial"/>
              </a:rPr>
              <a:t>Competitive landscape for Legacies and LCCs</a:t>
            </a:r>
            <a:endParaRPr b="1" lang="en-US" sz="1900" spc="-1" strike="noStrike">
              <a:solidFill>
                <a:srgbClr val="dd1e32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96880" y="1058760"/>
            <a:ext cx="7724880" cy="5479560"/>
          </a:xfrm>
          <a:prstGeom prst="rect">
            <a:avLst/>
          </a:prstGeom>
          <a:noFill/>
          <a:ln w="38160">
            <a:solidFill>
              <a:srgbClr val="617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Legacy and LCC competitors, we want to align on a number of elements in order to clearly define the competitive challenges we fa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profitability measures (ROIC, Net margin, Profit per pl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nue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SM/PR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overlap by competito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st land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C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dd1e32"/>
              </a:buClr>
              <a:buSzPct val="125000"/>
              <a:buFont typeface="Arial Unicode MS"/>
              <a:buChar char="-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storic trends and futur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et strateg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.e., What will competitors fleets look like in 10 years, and how will this impact their revenues and co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strate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1e32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trends (e.g., AA bankruptcy, Legacy international expansion pl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40:43Z</dcterms:created>
  <dc:creator>Virginia Casas</dc:creator>
  <dc:description/>
  <dc:language>en-US</dc:language>
  <cp:lastModifiedBy> </cp:lastModifiedBy>
  <cp:lastPrinted>2012-07-09T13:01:38Z</cp:lastPrinted>
  <dcterms:modified xsi:type="dcterms:W3CDTF">2012-07-17T02:15:04Z</dcterms:modified>
  <cp:revision>31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LastEditedOfficeVersion">
    <vt:lpwstr>Office2003</vt:lpwstr>
  </property>
  <property fmtid="{D5CDD505-2E9C-101B-9397-08002B2CF9AE}" pid="10" name="McKPaperSize">
    <vt:lpwstr>A4</vt:lpwstr>
  </property>
  <property fmtid="{D5CDD505-2E9C-101B-9397-08002B2CF9AE}" pid="11" name="NotesPageLayout">
    <vt:lpwstr>Message</vt:lpwstr>
  </property>
  <property fmtid="{D5CDD505-2E9C-101B-9397-08002B2CF9AE}" pid="12" name="Office2003EditCount">
    <vt:lpwstr>1</vt:lpwstr>
  </property>
  <property fmtid="{D5CDD505-2E9C-101B-9397-08002B2CF9AE}" pid="13" name="Office2003WasSaved">
    <vt:lpwstr>1</vt:lpwstr>
  </property>
  <property fmtid="{D5CDD505-2E9C-101B-9397-08002B2CF9AE}" pid="14" name="Office2010EditCount">
    <vt:lpwstr>0</vt:lpwstr>
  </property>
  <property fmtid="{D5CDD505-2E9C-101B-9397-08002B2CF9AE}" pid="15" name="Title">
    <vt:lpwstr>Title</vt:lpwstr>
  </property>
  <property fmtid="{D5CDD505-2E9C-101B-9397-08002B2CF9AE}" pid="16" name="Universal Objects">
    <vt:bool>1</vt:bool>
  </property>
</Properties>
</file>