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7080" y="580680"/>
            <a:ext cx="5438880" cy="407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199200" y="8905320"/>
            <a:ext cx="5508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A0271D4-9C31-4774-A9A6-DD6C0DE3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446880" y="102960"/>
            <a:ext cx="303120" cy="1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6199200" y="89056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F9BCA88-00BD-4C69-B937-52C0A9E5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6199200" y="89056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E8D8BF5-9F25-46D6-80CF-9EBADD52B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7588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6199200" y="89056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170D51E-0F84-4A56-A573-18E6F03D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7588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FE0F-9B0E-4F73-97D6-105B0BFB0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6C94-5D57-4C9A-8FF1-8CA2C0025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CBA3-8888-4ECD-B03E-29451F626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BD73-1F69-4AC1-88B0-A3CCF20E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F6DF-2A1E-4253-B499-CE70C782F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5C94-383C-471F-A297-972BA8BEE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E4D3-C42C-49DD-9A0C-870A0AE81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91FA-9A86-4081-A25B-7236A16F5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C274-F7BA-4A79-8E1B-42134BAC2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9210-3EC8-4D15-A33A-7E13C8D14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3FCC-BD5A-4478-983D-C368D67D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B111-263E-426B-998A-8214DFA1D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B5E6-0671-4FE6-BFEA-DA4EE99A0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7858080" y="2772720"/>
            <a:ext cx="206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st Modified 5/29/2012 10:08:32 AM Central Standard Ti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382240" y="38520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1/30/2012 8:32:54 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635960" y="6402240"/>
            <a:ext cx="74916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94240" y="498600"/>
            <a:ext cx="297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1/9/2012 4:55:36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63400" y="655560"/>
            <a:ext cx="271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1/5/2012 12:08:08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5896800"/>
              <a:ext cx="440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use of this material without specific permission of McKinsey &amp; Company is strictly prohibi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MW-DA1589-20111025-101--cover-page-2"/>
          <p:cNvPicPr/>
          <p:nvPr/>
        </p:nvPicPr>
        <p:blipFill>
          <a:blip r:embed="rId1"/>
          <a:stretch/>
        </p:blipFill>
        <p:spPr>
          <a:xfrm>
            <a:off x="2098800" y="2209680"/>
            <a:ext cx="6325920" cy="1584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92440" y="1525680"/>
            <a:ext cx="4852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dd1e32"/>
                </a:solidFill>
                <a:latin typeface="Arial"/>
              </a:rPr>
              <a:t>Competitive Strategy Update</a:t>
            </a:r>
            <a:endParaRPr b="1" lang="en-US" sz="28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McK Date"/>
          <p:cNvSpPr/>
          <p:nvPr/>
        </p:nvSpPr>
        <p:spPr>
          <a:xfrm>
            <a:off x="2692440" y="5443560"/>
            <a:ext cx="493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7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cK Document type"/>
          <p:cNvSpPr/>
          <p:nvPr/>
        </p:nvSpPr>
        <p:spPr>
          <a:xfrm>
            <a:off x="2692440" y="5126760"/>
            <a:ext cx="493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C Ops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outhwest"/>
          <p:cNvPicPr/>
          <p:nvPr/>
        </p:nvPicPr>
        <p:blipFill>
          <a:blip r:embed="rId2"/>
          <a:stretch/>
        </p:blipFill>
        <p:spPr>
          <a:xfrm>
            <a:off x="2692440" y="4003560"/>
            <a:ext cx="1969920" cy="638280"/>
          </a:xfrm>
          <a:prstGeom prst="rect">
            <a:avLst/>
          </a:prstGeom>
          <a:ln w="0">
            <a:noFill/>
          </a:ln>
        </p:spPr>
      </p:pic>
      <p:sp>
        <p:nvSpPr>
          <p:cNvPr id="111" name="TitleBottomPlaceholder"/>
          <p:cNvSpPr/>
          <p:nvPr/>
        </p:nvSpPr>
        <p:spPr>
          <a:xfrm>
            <a:off x="0" y="2238480"/>
            <a:ext cx="2193840" cy="4484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TopPlaceholder"/>
          <p:cNvSpPr/>
          <p:nvPr/>
        </p:nvSpPr>
        <p:spPr>
          <a:xfrm>
            <a:off x="0" y="0"/>
            <a:ext cx="2193840" cy="2238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Update on TWU 555 negotiation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22360" y="730080"/>
            <a:ext cx="7853400" cy="5473080"/>
          </a:xfrm>
          <a:prstGeom prst="rect">
            <a:avLst/>
          </a:prstGeom>
          <a:noFill/>
          <a:ln w="381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U 555 contract (Ramp/Ops/Provo) has been amendable since July 2011, and negotiations still 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U 555 wage scale gap with competitors estimated at $50-85M per year and growing. Growth driven by our tenure profile and steep step increase at Step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proposal submitted by Company on January 2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rgets closing $50-80M of the gap by 2015 and has 4 main compon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base wage scale increases, with bonuses based on company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d attendance policies in line with AMP proposal (to be delivered in M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lexibility of work rules for part-time and seasonal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use of technology (e.g., Bids and trades on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23472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expected from TWU 555 by February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4A13-41B1-4848-93CD-B866C9781E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urrent gap to competitors is ~$50-85M, and projected to grow significantly by 2015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151160" y="1074600"/>
            <a:ext cx="4454640" cy="435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119160" y="1074600"/>
            <a:ext cx="4170240" cy="4356360"/>
          </a:xfrm>
          <a:custGeom>
            <a:avLst/>
            <a:gdLst>
              <a:gd name="textAreaLeft" fmla="*/ 0 w 4170240"/>
              <a:gd name="textAreaRight" fmla="*/ 4170600 w 4170240"/>
              <a:gd name="textAreaTop" fmla="*/ 0 h 4356360"/>
              <a:gd name="textAreaBottom" fmla="*/ 4356720 h 435636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1048" y="0"/>
                </a:lnTo>
                <a:lnTo>
                  <a:pt x="1152" y="288"/>
                </a:lnTo>
                <a:lnTo>
                  <a:pt x="1048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dd1e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151160" y="1065240"/>
            <a:ext cx="446724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202280" y="1106640"/>
            <a:ext cx="4378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but is expected to increase in the future, particularly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ith LC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905280" y="1068480"/>
            <a:ext cx="82440" cy="528480"/>
          </a:xfrm>
          <a:prstGeom prst="rtTriangl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28520" y="1071720"/>
            <a:ext cx="3776760" cy="527040"/>
          </a:xfrm>
          <a:prstGeom prst="rect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10960" y="1101600"/>
            <a:ext cx="3778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t gap of Ramp/Ops/Prov labor costs is $86M+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8640" y="1884240"/>
            <a:ext cx="362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15 Projected TWU555 Labo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Million, normalized to WN’s AS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3"/>
          <p:cNvGraphicFramePr/>
          <p:nvPr/>
        </p:nvGraphicFramePr>
        <p:xfrm>
          <a:off x="255600" y="2452680"/>
          <a:ext cx="3541680" cy="259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" y="2452680"/>
                    <a:ext cx="354168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Line 65"/>
          <p:cNvSpPr/>
          <p:nvPr/>
        </p:nvSpPr>
        <p:spPr>
          <a:xfrm>
            <a:off x="3699000" y="3192480"/>
            <a:ext cx="0" cy="23508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3541680" y="3424320"/>
            <a:ext cx="2142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3"/>
          <p:cNvSpPr/>
          <p:nvPr/>
        </p:nvSpPr>
        <p:spPr>
          <a:xfrm>
            <a:off x="1303200" y="3195720"/>
            <a:ext cx="24526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2"/>
          <p:cNvSpPr/>
          <p:nvPr/>
        </p:nvSpPr>
        <p:spPr>
          <a:xfrm>
            <a:off x="2584440" y="3192480"/>
            <a:ext cx="0" cy="41580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2427120" y="3605040"/>
            <a:ext cx="2145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>
            <a:off x="1303200" y="3195720"/>
            <a:ext cx="13384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1"/>
          <p:cNvSpPr/>
          <p:nvPr/>
        </p:nvSpPr>
        <p:spPr>
          <a:xfrm>
            <a:off x="2414520" y="2894040"/>
            <a:ext cx="33984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2868480" y="5002200"/>
            <a:ext cx="54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ega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0"/>
          <p:cNvSpPr/>
          <p:nvPr/>
        </p:nvSpPr>
        <p:spPr>
          <a:xfrm>
            <a:off x="3529080" y="2894040"/>
            <a:ext cx="33948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851120" y="5002200"/>
            <a:ext cx="34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C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728640" y="5002200"/>
            <a:ext cx="35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357120" y="1884240"/>
            <a:ext cx="326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10 Estimated TWU 555 Labo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Million, normalized to WN’s AS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6"/>
          <p:cNvGraphicFramePr/>
          <p:nvPr/>
        </p:nvGraphicFramePr>
        <p:xfrm>
          <a:off x="4406760" y="2381400"/>
          <a:ext cx="3541680" cy="26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6760" y="2381400"/>
                    <a:ext cx="354168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Line 71"/>
          <p:cNvSpPr/>
          <p:nvPr/>
        </p:nvSpPr>
        <p:spPr>
          <a:xfrm>
            <a:off x="7840800" y="2749680"/>
            <a:ext cx="0" cy="32040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0"/>
          <p:cNvSpPr/>
          <p:nvPr/>
        </p:nvSpPr>
        <p:spPr>
          <a:xfrm>
            <a:off x="7683480" y="3067200"/>
            <a:ext cx="2142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9"/>
          <p:cNvSpPr/>
          <p:nvPr/>
        </p:nvSpPr>
        <p:spPr>
          <a:xfrm>
            <a:off x="5454720" y="2752560"/>
            <a:ext cx="24429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8"/>
          <p:cNvSpPr/>
          <p:nvPr/>
        </p:nvSpPr>
        <p:spPr>
          <a:xfrm>
            <a:off x="6726240" y="2749680"/>
            <a:ext cx="0" cy="59688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7"/>
          <p:cNvSpPr/>
          <p:nvPr/>
        </p:nvSpPr>
        <p:spPr>
          <a:xfrm>
            <a:off x="6568920" y="3343320"/>
            <a:ext cx="2145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6"/>
          <p:cNvSpPr/>
          <p:nvPr/>
        </p:nvSpPr>
        <p:spPr>
          <a:xfrm>
            <a:off x="5454720" y="2752560"/>
            <a:ext cx="132876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7670880" y="2451240"/>
            <a:ext cx="33948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4"/>
          <p:cNvSpPr/>
          <p:nvPr/>
        </p:nvSpPr>
        <p:spPr>
          <a:xfrm>
            <a:off x="6491160" y="2451240"/>
            <a:ext cx="470160" cy="25380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-1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6978600" y="4987800"/>
            <a:ext cx="6094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egacy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5965920" y="4987800"/>
            <a:ext cx="4064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CC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4879800" y="4987800"/>
            <a:ext cx="351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7827840" y="3276720"/>
            <a:ext cx="1100160" cy="1281960"/>
          </a:xfrm>
          <a:prstGeom prst="rect">
            <a:avLst/>
          </a:prstGeom>
          <a:solidFill>
            <a:srgbClr val="91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drivers of increase are WN’s pay scale and tenure profi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McK 4. Footnote"/>
          <p:cNvSpPr/>
          <p:nvPr/>
        </p:nvSpPr>
        <p:spPr>
          <a:xfrm>
            <a:off x="119160" y="5813280"/>
            <a:ext cx="8548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CC = jetBlue, Frontier, Allegiant, Airtran. Legacy = American, United, Delta, US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Does not include 401K, taxes, FMLA, OJI, or sick time.  Total TWU555 Labor cost in 2010 = ~$418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Does not include 401K, taxes, FMLA, OJI, or sick time.  Assumes total miles stays constant, and base wages grow 3%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Assumes a 1% per year base wage rate growth p.a. for Legacy and 2.3% p.a. base wage growth rate for LCC (based on 10 yr CAGR), tenure profile similar to WN, and no growth in ASM (98.4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P&amp;A labor model, team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7108560" y="1616040"/>
            <a:ext cx="15022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OUGH EST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41"/>
          <p:cNvCxnSpPr>
            <a:stCxn id="156" idx="0"/>
            <a:endCxn id="156" idx="1"/>
          </p:cNvCxnSpPr>
          <p:nvPr/>
        </p:nvCxnSpPr>
        <p:spPr>
          <a:xfrm>
            <a:off x="7108560" y="161604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58" name="AutoShape 42"/>
          <p:cNvCxnSpPr>
            <a:stCxn id="156" idx="2"/>
            <a:endCxn id="156" idx="3"/>
          </p:cNvCxnSpPr>
          <p:nvPr/>
        </p:nvCxnSpPr>
        <p:spPr>
          <a:xfrm>
            <a:off x="7108560" y="1825200"/>
            <a:ext cx="150228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59" name="AutoShape 43"/>
          <p:cNvSpPr/>
          <p:nvPr/>
        </p:nvSpPr>
        <p:spPr>
          <a:xfrm>
            <a:off x="5959800" y="0"/>
            <a:ext cx="30034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FIDENTIAL; FOR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44"/>
          <p:cNvCxnSpPr>
            <a:stCxn id="159" idx="0"/>
            <a:endCxn id="159" idx="1"/>
          </p:cNvCxnSpPr>
          <p:nvPr/>
        </p:nvCxnSpPr>
        <p:spPr>
          <a:xfrm>
            <a:off x="5960880" y="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61" name="AutoShape 45"/>
          <p:cNvCxnSpPr>
            <a:stCxn id="159" idx="2"/>
            <a:endCxn id="159" idx="3"/>
          </p:cNvCxnSpPr>
          <p:nvPr/>
        </p:nvCxnSpPr>
        <p:spPr>
          <a:xfrm>
            <a:off x="5961240" y="209160"/>
            <a:ext cx="300096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62" name="Rectangle 46"/>
          <p:cNvSpPr/>
          <p:nvPr/>
        </p:nvSpPr>
        <p:spPr>
          <a:xfrm>
            <a:off x="4486320" y="5275440"/>
            <a:ext cx="37368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umes retroactive pay from 2011, and 3% base wage increase per ann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7"/>
          <p:cNvSpPr/>
          <p:nvPr/>
        </p:nvSpPr>
        <p:spPr>
          <a:xfrm flipV="1">
            <a:off x="4788000" y="4485960"/>
            <a:ext cx="19080" cy="780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274-4C90-4F98-91DE-B764F8B796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7"/>
          <p:cNvSpPr/>
          <p:nvPr/>
        </p:nvSpPr>
        <p:spPr>
          <a:xfrm>
            <a:off x="5648400" y="4137120"/>
            <a:ext cx="1817640" cy="140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361800" y="1817640"/>
          <a:ext cx="8140680" cy="36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" y="1817640"/>
                    <a:ext cx="81406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258"/>
          <p:cNvSpPr/>
          <p:nvPr/>
        </p:nvSpPr>
        <p:spPr>
          <a:xfrm flipV="1">
            <a:off x="7743960" y="2471760"/>
            <a:ext cx="0" cy="52056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57"/>
          <p:cNvSpPr/>
          <p:nvPr/>
        </p:nvSpPr>
        <p:spPr>
          <a:xfrm>
            <a:off x="7143840" y="2989440"/>
            <a:ext cx="6570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7321680" y="1496880"/>
            <a:ext cx="1063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ge scale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$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482760" y="1496880"/>
            <a:ext cx="199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U 555 tenure profil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% in step, as of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516720" y="5592600"/>
            <a:ext cx="1546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y structure step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(Ye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0"/>
          <p:cNvSpPr/>
          <p:nvPr/>
        </p:nvSpPr>
        <p:spPr>
          <a:xfrm>
            <a:off x="6989760" y="2595600"/>
            <a:ext cx="649440" cy="27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7593120" y="5291280"/>
            <a:ext cx="312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7043760" y="5291280"/>
            <a:ext cx="209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648828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5883120" y="5291280"/>
            <a:ext cx="111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528336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468324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07844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473280" y="5291280"/>
            <a:ext cx="111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287352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27340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166860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3800" y="5291280"/>
            <a:ext cx="11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he projected growth in TWU 555 labor costs is driven by the tenure profile and steep pay increase at Step 11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9" name="McK Footnote"/>
          <p:cNvSpPr/>
          <p:nvPr/>
        </p:nvSpPr>
        <p:spPr>
          <a:xfrm>
            <a:off x="125280" y="6246360"/>
            <a:ext cx="81676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4560" indent="-574560">
              <a:spcBef>
                <a:spcPts val="300"/>
              </a:spcBef>
              <a:tabLst>
                <a:tab algn="l" pos="0"/>
                <a:tab algn="r" pos="5335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ge scale based on weighted average scales of Ramp/Provo agent and Ops/Cargo ag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spcBef>
                <a:spcPts val="300"/>
              </a:spcBef>
              <a:tabLst>
                <a:tab algn="l" pos="0"/>
                <a:tab algn="r" pos="5335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U555 Seniority cost model, as of Ja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56"/>
          <p:cNvSpPr/>
          <p:nvPr/>
        </p:nvSpPr>
        <p:spPr>
          <a:xfrm>
            <a:off x="7132680" y="878040"/>
            <a:ext cx="328680" cy="0"/>
          </a:xfrm>
          <a:prstGeom prst="line">
            <a:avLst/>
          </a:prstGeom>
          <a:ln w="28440">
            <a:solidFill>
              <a:srgbClr val="0d0d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0"/>
          <p:cNvSpPr/>
          <p:nvPr/>
        </p:nvSpPr>
        <p:spPr>
          <a:xfrm>
            <a:off x="7324560" y="1050840"/>
            <a:ext cx="136800" cy="13644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6"/>
          <p:cNvSpPr/>
          <p:nvPr/>
        </p:nvSpPr>
        <p:spPr>
          <a:xfrm>
            <a:off x="7562880" y="1049400"/>
            <a:ext cx="779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nure 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8"/>
          <p:cNvSpPr/>
          <p:nvPr/>
        </p:nvSpPr>
        <p:spPr>
          <a:xfrm>
            <a:off x="7562880" y="808200"/>
            <a:ext cx="660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age 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38"/>
          <p:cNvSpPr/>
          <p:nvPr/>
        </p:nvSpPr>
        <p:spPr>
          <a:xfrm>
            <a:off x="5416560" y="3325680"/>
            <a:ext cx="2009880" cy="754200"/>
          </a:xfrm>
          <a:prstGeom prst="wedgeRectCallout">
            <a:avLst>
              <a:gd name="adj1" fmla="val 2370"/>
              <a:gd name="adj2" fmla="val 63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% of work group within 3 years of 23% jump i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9"/>
          <p:cNvSpPr/>
          <p:nvPr/>
        </p:nvSpPr>
        <p:spPr>
          <a:xfrm>
            <a:off x="5959800" y="0"/>
            <a:ext cx="30034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FIDENTIAL; FOR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260"/>
          <p:cNvCxnSpPr>
            <a:stCxn id="195" idx="0"/>
            <a:endCxn id="195" idx="1"/>
          </p:cNvCxnSpPr>
          <p:nvPr/>
        </p:nvCxnSpPr>
        <p:spPr>
          <a:xfrm>
            <a:off x="5960880" y="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97" name="AutoShape 261"/>
          <p:cNvCxnSpPr>
            <a:stCxn id="195" idx="2"/>
            <a:endCxn id="195" idx="3"/>
          </p:cNvCxnSpPr>
          <p:nvPr/>
        </p:nvCxnSpPr>
        <p:spPr>
          <a:xfrm>
            <a:off x="5961240" y="209160"/>
            <a:ext cx="300096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079A-43BF-4CB7-8C48-CC294F9CF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19160" y="647640"/>
            <a:ext cx="8616960" cy="5288040"/>
            <a:chOff x="119160" y="647640"/>
            <a:chExt cx="8616960" cy="5288040"/>
          </a:xfrm>
        </p:grpSpPr>
        <p:sp>
          <p:nvSpPr>
            <p:cNvPr id="202" name="Rectangle 5"/>
            <p:cNvSpPr/>
            <p:nvPr/>
          </p:nvSpPr>
          <p:spPr>
            <a:xfrm>
              <a:off x="119160" y="64764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119160" y="331776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19160" y="64764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Ops/Cargo wage scale vs. Lega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119160" y="331776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Ops/Cargo wage scale vs. L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555 Ops/Cargo wage scal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208160" y="746280"/>
          <a:ext cx="6570720" cy="25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746280"/>
                    <a:ext cx="65707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Line 11"/>
          <p:cNvSpPr/>
          <p:nvPr/>
        </p:nvSpPr>
        <p:spPr>
          <a:xfrm flipV="1">
            <a:off x="7861320" y="1104840"/>
            <a:ext cx="0" cy="54936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684920" y="110808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7684920" y="165096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7966080" y="1108080"/>
            <a:ext cx="779400" cy="54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2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204920" y="3557520"/>
          <a:ext cx="6694560" cy="284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4920" y="3557520"/>
                    <a:ext cx="669456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16"/>
          <p:cNvSpPr/>
          <p:nvPr/>
        </p:nvSpPr>
        <p:spPr>
          <a:xfrm flipV="1">
            <a:off x="7867800" y="3916080"/>
            <a:ext cx="0" cy="83484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7691400" y="391968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7691400" y="474804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7878600" y="6033960"/>
            <a:ext cx="384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7972560" y="4062240"/>
            <a:ext cx="779400" cy="54324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4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4167360" y="3402000"/>
            <a:ext cx="32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2992320" y="3673440"/>
            <a:ext cx="328680" cy="0"/>
          </a:xfrm>
          <a:prstGeom prst="line">
            <a:avLst/>
          </a:prstGeom>
          <a:ln w="28440">
            <a:solidFill>
              <a:srgbClr val="7ac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2992320" y="3402000"/>
            <a:ext cx="32868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1809720" y="3402000"/>
            <a:ext cx="32868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1809720" y="3673440"/>
            <a:ext cx="328680" cy="0"/>
          </a:xfrm>
          <a:prstGeom prst="line">
            <a:avLst/>
          </a:prstGeom>
          <a:ln w="2844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4292640" y="336384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7"/>
          <p:cNvSpPr/>
          <p:nvPr/>
        </p:nvSpPr>
        <p:spPr>
          <a:xfrm>
            <a:off x="1935000" y="336384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597560" y="3317760"/>
            <a:ext cx="564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3422520" y="3589200"/>
            <a:ext cx="54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 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3422520" y="3317760"/>
            <a:ext cx="52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239920" y="3317760"/>
            <a:ext cx="25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2239920" y="35892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et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34"/>
          <p:cNvCxnSpPr>
            <a:stCxn id="232" idx="0"/>
            <a:endCxn id="232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34" name="AutoShape 35"/>
          <p:cNvCxnSpPr>
            <a:stCxn id="232" idx="2"/>
            <a:endCxn id="232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35" name="Rectangle 36"/>
          <p:cNvSpPr/>
          <p:nvPr/>
        </p:nvSpPr>
        <p:spPr>
          <a:xfrm>
            <a:off x="19080" y="637704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Jan 2011 Air Conference results; Airline Pilot Central; Publicly availabl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7"/>
          <p:cNvSpPr/>
          <p:nvPr/>
        </p:nvSpPr>
        <p:spPr>
          <a:xfrm>
            <a:off x="5202360" y="73188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8"/>
          <p:cNvSpPr/>
          <p:nvPr/>
        </p:nvSpPr>
        <p:spPr>
          <a:xfrm>
            <a:off x="4030560" y="1003320"/>
            <a:ext cx="428760" cy="0"/>
          </a:xfrm>
          <a:prstGeom prst="line">
            <a:avLst/>
          </a:prstGeom>
          <a:ln w="28440">
            <a:solidFill>
              <a:srgbClr val="8e7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9"/>
          <p:cNvSpPr/>
          <p:nvPr/>
        </p:nvSpPr>
        <p:spPr>
          <a:xfrm>
            <a:off x="4030560" y="731880"/>
            <a:ext cx="428760" cy="0"/>
          </a:xfrm>
          <a:prstGeom prst="line">
            <a:avLst/>
          </a:prstGeom>
          <a:ln w="28440">
            <a:solidFill>
              <a:srgbClr val="66b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0"/>
          <p:cNvSpPr/>
          <p:nvPr/>
        </p:nvSpPr>
        <p:spPr>
          <a:xfrm>
            <a:off x="2943360" y="1003320"/>
            <a:ext cx="428400" cy="0"/>
          </a:xfrm>
          <a:prstGeom prst="line">
            <a:avLst/>
          </a:prstGeom>
          <a:ln w="2844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1"/>
          <p:cNvSpPr/>
          <p:nvPr/>
        </p:nvSpPr>
        <p:spPr>
          <a:xfrm>
            <a:off x="2943360" y="731880"/>
            <a:ext cx="42840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1770120" y="1003320"/>
            <a:ext cx="428400" cy="0"/>
          </a:xfrm>
          <a:prstGeom prst="line">
            <a:avLst/>
          </a:prstGeom>
          <a:ln w="28440">
            <a:solidFill>
              <a:srgbClr val="7ac14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1770120" y="731880"/>
            <a:ext cx="42840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4"/>
          <p:cNvSpPr/>
          <p:nvPr/>
        </p:nvSpPr>
        <p:spPr>
          <a:xfrm>
            <a:off x="5378400" y="69372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1946160" y="69372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5732640" y="647640"/>
            <a:ext cx="26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4560840" y="919080"/>
            <a:ext cx="203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4560840" y="647640"/>
            <a:ext cx="438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3473280" y="919080"/>
            <a:ext cx="354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3473280" y="647640"/>
            <a:ext cx="277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300400" y="919080"/>
            <a:ext cx="439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00400" y="647640"/>
            <a:ext cx="253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38160" y="652932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note: Average weighted by total domestic block hours. 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078-13C2-4AAB-8A23-C0D771A383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119160" y="647640"/>
            <a:ext cx="8616960" cy="5288040"/>
            <a:chOff x="119160" y="647640"/>
            <a:chExt cx="8616960" cy="5288040"/>
          </a:xfrm>
        </p:grpSpPr>
        <p:sp>
          <p:nvSpPr>
            <p:cNvPr id="257" name="Rectangle 5"/>
            <p:cNvSpPr/>
            <p:nvPr/>
          </p:nvSpPr>
          <p:spPr>
            <a:xfrm>
              <a:off x="119160" y="64764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119160" y="3317760"/>
              <a:ext cx="8616960" cy="261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843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119160" y="64764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Ramp wage scale vs. Lega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119160" y="3317760"/>
              <a:ext cx="1057320" cy="2617920"/>
            </a:xfrm>
            <a:prstGeom prst="rect">
              <a:avLst/>
            </a:prstGeom>
            <a:solidFill>
              <a:srgbClr val="284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N R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ge scale vs. L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$ per hour, as of Jan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555 Ramp wage scal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1208160" y="746280"/>
          <a:ext cx="6570720" cy="25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746280"/>
                    <a:ext cx="65707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 flipV="1">
            <a:off x="7861320" y="990720"/>
            <a:ext cx="0" cy="55872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7684920" y="99360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7684920" y="1546200"/>
            <a:ext cx="233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4"/>
          <p:cNvSpPr/>
          <p:nvPr/>
        </p:nvSpPr>
        <p:spPr>
          <a:xfrm>
            <a:off x="7966080" y="998640"/>
            <a:ext cx="779400" cy="54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204920" y="3557520"/>
          <a:ext cx="6694560" cy="284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4920" y="3557520"/>
                    <a:ext cx="669456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Line 16"/>
          <p:cNvSpPr/>
          <p:nvPr/>
        </p:nvSpPr>
        <p:spPr>
          <a:xfrm flipV="1">
            <a:off x="7867800" y="3801600"/>
            <a:ext cx="0" cy="825480"/>
          </a:xfrm>
          <a:prstGeom prst="line">
            <a:avLst/>
          </a:prstGeom>
          <a:ln w="38160">
            <a:solidFill>
              <a:srgbClr val="dd1e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7691400" y="380520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7691400" y="4624560"/>
            <a:ext cx="23328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7878600" y="6033960"/>
            <a:ext cx="384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0"/>
          <p:cNvSpPr/>
          <p:nvPr/>
        </p:nvSpPr>
        <p:spPr>
          <a:xfrm>
            <a:off x="7972560" y="3943440"/>
            <a:ext cx="779400" cy="542880"/>
          </a:xfrm>
          <a:prstGeom prst="ellipse">
            <a:avLst/>
          </a:prstGeom>
          <a:solidFill>
            <a:srgbClr val="28439c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+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s a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167360" y="3402000"/>
            <a:ext cx="32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2992320" y="3673440"/>
            <a:ext cx="328680" cy="0"/>
          </a:xfrm>
          <a:prstGeom prst="line">
            <a:avLst/>
          </a:prstGeom>
          <a:ln w="28440">
            <a:solidFill>
              <a:srgbClr val="7ac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2992320" y="3402000"/>
            <a:ext cx="32868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1809720" y="3402000"/>
            <a:ext cx="32868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1809720" y="3673440"/>
            <a:ext cx="328680" cy="0"/>
          </a:xfrm>
          <a:prstGeom prst="line">
            <a:avLst/>
          </a:prstGeom>
          <a:ln w="2844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6"/>
          <p:cNvSpPr/>
          <p:nvPr/>
        </p:nvSpPr>
        <p:spPr>
          <a:xfrm>
            <a:off x="4292640" y="336384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7"/>
          <p:cNvSpPr/>
          <p:nvPr/>
        </p:nvSpPr>
        <p:spPr>
          <a:xfrm>
            <a:off x="1935000" y="336384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3422520" y="3317760"/>
            <a:ext cx="52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3422520" y="3589200"/>
            <a:ext cx="54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ir 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4597560" y="3317760"/>
            <a:ext cx="564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2239920" y="3317760"/>
            <a:ext cx="254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239920" y="35892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et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3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4"/>
          <p:cNvCxnSpPr>
            <a:stCxn id="287" idx="0"/>
            <a:endCxn id="287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89" name="AutoShape 35"/>
          <p:cNvCxnSpPr>
            <a:stCxn id="287" idx="2"/>
            <a:endCxn id="287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90" name="Rectangle 36"/>
          <p:cNvSpPr/>
          <p:nvPr/>
        </p:nvSpPr>
        <p:spPr>
          <a:xfrm>
            <a:off x="19080" y="637704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Jan 2011 Air Conference results; Airline Pilot Central; Publicly availabl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7"/>
          <p:cNvSpPr/>
          <p:nvPr/>
        </p:nvSpPr>
        <p:spPr>
          <a:xfrm>
            <a:off x="5202360" y="73188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4030560" y="1003320"/>
            <a:ext cx="428760" cy="0"/>
          </a:xfrm>
          <a:prstGeom prst="line">
            <a:avLst/>
          </a:prstGeom>
          <a:ln w="28440">
            <a:solidFill>
              <a:srgbClr val="8e7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4030560" y="731880"/>
            <a:ext cx="428760" cy="0"/>
          </a:xfrm>
          <a:prstGeom prst="line">
            <a:avLst/>
          </a:prstGeom>
          <a:ln w="28440">
            <a:solidFill>
              <a:srgbClr val="66b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0"/>
          <p:cNvSpPr/>
          <p:nvPr/>
        </p:nvSpPr>
        <p:spPr>
          <a:xfrm>
            <a:off x="2943360" y="1003320"/>
            <a:ext cx="428400" cy="0"/>
          </a:xfrm>
          <a:prstGeom prst="line">
            <a:avLst/>
          </a:prstGeom>
          <a:ln w="2844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1"/>
          <p:cNvSpPr/>
          <p:nvPr/>
        </p:nvSpPr>
        <p:spPr>
          <a:xfrm>
            <a:off x="2943360" y="731880"/>
            <a:ext cx="428400" cy="0"/>
          </a:xfrm>
          <a:prstGeom prst="line">
            <a:avLst/>
          </a:prstGeom>
          <a:ln w="28440">
            <a:solidFill>
              <a:srgbClr val="ecb9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>
            <a:off x="1770120" y="1003320"/>
            <a:ext cx="428400" cy="0"/>
          </a:xfrm>
          <a:prstGeom prst="line">
            <a:avLst/>
          </a:prstGeom>
          <a:ln w="28440">
            <a:solidFill>
              <a:srgbClr val="7ac14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3"/>
          <p:cNvSpPr/>
          <p:nvPr/>
        </p:nvSpPr>
        <p:spPr>
          <a:xfrm>
            <a:off x="1770120" y="731880"/>
            <a:ext cx="428400" cy="0"/>
          </a:xfrm>
          <a:prstGeom prst="line">
            <a:avLst/>
          </a:prstGeom>
          <a:ln w="2844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4"/>
          <p:cNvSpPr/>
          <p:nvPr/>
        </p:nvSpPr>
        <p:spPr>
          <a:xfrm>
            <a:off x="5378400" y="693720"/>
            <a:ext cx="76320" cy="76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5"/>
          <p:cNvSpPr/>
          <p:nvPr/>
        </p:nvSpPr>
        <p:spPr>
          <a:xfrm>
            <a:off x="1946160" y="693720"/>
            <a:ext cx="76320" cy="76320"/>
          </a:xfrm>
          <a:prstGeom prst="ellipse">
            <a:avLst/>
          </a:prstGeom>
          <a:solidFill>
            <a:srgbClr val="dd1e32"/>
          </a:solidFill>
          <a:ln w="9360">
            <a:solidFill>
              <a:srgbClr val="dd1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5732640" y="647640"/>
            <a:ext cx="261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3473280" y="919080"/>
            <a:ext cx="354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3473280" y="647640"/>
            <a:ext cx="277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2300400" y="919080"/>
            <a:ext cx="439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0"/>
          <p:cNvSpPr/>
          <p:nvPr/>
        </p:nvSpPr>
        <p:spPr>
          <a:xfrm>
            <a:off x="4560840" y="919080"/>
            <a:ext cx="203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1"/>
          <p:cNvSpPr/>
          <p:nvPr/>
        </p:nvSpPr>
        <p:spPr>
          <a:xfrm>
            <a:off x="4560840" y="647640"/>
            <a:ext cx="438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2300400" y="647640"/>
            <a:ext cx="253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3"/>
          <p:cNvSpPr/>
          <p:nvPr/>
        </p:nvSpPr>
        <p:spPr>
          <a:xfrm>
            <a:off x="38160" y="6529320"/>
            <a:ext cx="8481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2120" indent="-2206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note: Average weighted by total domestic block hours. WN uses standard 1.16 TFP to Hourly convers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9160" y="18540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WU555 negotiating issue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3002040" y="684360"/>
            <a:ext cx="29415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ne of Possibl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in $ Millions, annual savings in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111240" y="5208480"/>
            <a:ext cx="1320840" cy="560520"/>
          </a:xfrm>
          <a:prstGeom prst="rect">
            <a:avLst/>
          </a:prstGeom>
          <a:solidFill>
            <a:srgbClr val="ecb92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taffing for          800 bins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81000" y="1243080"/>
            <a:ext cx="1320840" cy="56016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Compensation structure</a:t>
            </a:r>
            <a:r>
              <a:rPr b="1" lang="en-US" sz="1300" spc="-1" strike="noStrike" baseline="30000">
                <a:solidFill>
                  <a:srgbClr val="28439c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111240" y="4449600"/>
            <a:ext cx="1320840" cy="560520"/>
          </a:xfrm>
          <a:prstGeom prst="rect">
            <a:avLst/>
          </a:prstGeom>
          <a:solidFill>
            <a:srgbClr val="ecb92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upervisor work sco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93600" y="2011320"/>
            <a:ext cx="1320840" cy="56052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Attendance policies</a:t>
            </a:r>
            <a:r>
              <a:rPr b="1" lang="en-US" sz="1300" spc="-1" strike="noStrike" baseline="30000">
                <a:solidFill>
                  <a:srgbClr val="28439c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5902200" y="5208480"/>
            <a:ext cx="1278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staf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542960" y="520848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gent Discr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3025800" y="5208480"/>
            <a:ext cx="1332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 EE guarant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 Exce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4452840" y="5208480"/>
            <a:ext cx="133992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 EE guarantee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 Exce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81000" y="3665520"/>
            <a:ext cx="1320840" cy="56052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Technology improv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1542960" y="365436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ifts, bids, overti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nually pro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025800" y="3660840"/>
            <a:ext cx="1332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ds and tr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4452840" y="3649680"/>
            <a:ext cx="133992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ds, Trad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amp; Over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8"/>
          <p:cNvGrpSpPr/>
          <p:nvPr/>
        </p:nvGrpSpPr>
        <p:grpSpPr>
          <a:xfrm>
            <a:off x="4938840" y="3386160"/>
            <a:ext cx="369720" cy="280800"/>
            <a:chOff x="4938840" y="3386160"/>
            <a:chExt cx="369720" cy="280800"/>
          </a:xfrm>
        </p:grpSpPr>
        <p:sp>
          <p:nvSpPr>
            <p:cNvPr id="325" name="Rectangle 19"/>
            <p:cNvSpPr/>
            <p:nvPr/>
          </p:nvSpPr>
          <p:spPr>
            <a:xfrm>
              <a:off x="493884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"/>
            <p:cNvSpPr/>
            <p:nvPr/>
          </p:nvSpPr>
          <p:spPr>
            <a:xfrm>
              <a:off x="493884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1"/>
          <p:cNvSpPr/>
          <p:nvPr/>
        </p:nvSpPr>
        <p:spPr>
          <a:xfrm>
            <a:off x="3359160" y="3386160"/>
            <a:ext cx="517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3359160" y="3386160"/>
            <a:ext cx="517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$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3"/>
          <p:cNvGrpSpPr/>
          <p:nvPr/>
        </p:nvGrpSpPr>
        <p:grpSpPr>
          <a:xfrm>
            <a:off x="2055960" y="3386160"/>
            <a:ext cx="369720" cy="280800"/>
            <a:chOff x="2055960" y="3386160"/>
            <a:chExt cx="369720" cy="280800"/>
          </a:xfrm>
        </p:grpSpPr>
        <p:sp>
          <p:nvSpPr>
            <p:cNvPr id="330" name="Rectangle 24"/>
            <p:cNvSpPr/>
            <p:nvPr/>
          </p:nvSpPr>
          <p:spPr>
            <a:xfrm>
              <a:off x="205596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2055960" y="338616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6"/>
          <p:cNvGrpSpPr/>
          <p:nvPr/>
        </p:nvGrpSpPr>
        <p:grpSpPr>
          <a:xfrm>
            <a:off x="6356520" y="4941720"/>
            <a:ext cx="369720" cy="281160"/>
            <a:chOff x="6356520" y="4941720"/>
            <a:chExt cx="369720" cy="281160"/>
          </a:xfrm>
        </p:grpSpPr>
        <p:sp>
          <p:nvSpPr>
            <p:cNvPr id="333" name="Rectangle 27"/>
            <p:cNvSpPr/>
            <p:nvPr/>
          </p:nvSpPr>
          <p:spPr>
            <a:xfrm>
              <a:off x="6356520" y="4941720"/>
              <a:ext cx="369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8"/>
            <p:cNvSpPr/>
            <p:nvPr/>
          </p:nvSpPr>
          <p:spPr>
            <a:xfrm>
              <a:off x="6356520" y="4941720"/>
              <a:ext cx="369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9"/>
          <p:cNvSpPr/>
          <p:nvPr/>
        </p:nvSpPr>
        <p:spPr>
          <a:xfrm>
            <a:off x="4938840" y="4941720"/>
            <a:ext cx="369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4842000" y="4941720"/>
            <a:ext cx="731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(3 – 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3506760" y="4952880"/>
            <a:ext cx="370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>
            <a:off x="3321000" y="4952880"/>
            <a:ext cx="74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(4 - 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3"/>
          <p:cNvGrpSpPr/>
          <p:nvPr/>
        </p:nvGrpSpPr>
        <p:grpSpPr>
          <a:xfrm>
            <a:off x="1974960" y="4941720"/>
            <a:ext cx="530280" cy="281160"/>
            <a:chOff x="1974960" y="4941720"/>
            <a:chExt cx="530280" cy="281160"/>
          </a:xfrm>
        </p:grpSpPr>
        <p:sp>
          <p:nvSpPr>
            <p:cNvPr id="340" name="Rectangle 34"/>
            <p:cNvSpPr/>
            <p:nvPr/>
          </p:nvSpPr>
          <p:spPr>
            <a:xfrm>
              <a:off x="1974960" y="4941720"/>
              <a:ext cx="5302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5"/>
            <p:cNvSpPr/>
            <p:nvPr/>
          </p:nvSpPr>
          <p:spPr>
            <a:xfrm>
              <a:off x="1974960" y="4941720"/>
              <a:ext cx="5302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(6)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36"/>
          <p:cNvSpPr/>
          <p:nvPr/>
        </p:nvSpPr>
        <p:spPr>
          <a:xfrm>
            <a:off x="5902200" y="4446720"/>
            <a:ext cx="1278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ervisor Discr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7"/>
          <p:cNvSpPr/>
          <p:nvPr/>
        </p:nvSpPr>
        <p:spPr>
          <a:xfrm>
            <a:off x="1542960" y="4451400"/>
            <a:ext cx="139536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ervisor prev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rom assisting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3025800" y="4457880"/>
            <a:ext cx="1332000" cy="56016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isting “Assis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4452840" y="4446720"/>
            <a:ext cx="133992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sk for Help R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0"/>
          <p:cNvGrpSpPr/>
          <p:nvPr/>
        </p:nvGrpSpPr>
        <p:grpSpPr>
          <a:xfrm>
            <a:off x="6356520" y="4183200"/>
            <a:ext cx="369720" cy="280800"/>
            <a:chOff x="6356520" y="4183200"/>
            <a:chExt cx="369720" cy="280800"/>
          </a:xfrm>
        </p:grpSpPr>
        <p:sp>
          <p:nvSpPr>
            <p:cNvPr id="347" name="Rectangle 41"/>
            <p:cNvSpPr/>
            <p:nvPr/>
          </p:nvSpPr>
          <p:spPr>
            <a:xfrm>
              <a:off x="635652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2"/>
            <p:cNvSpPr/>
            <p:nvPr/>
          </p:nvSpPr>
          <p:spPr>
            <a:xfrm>
              <a:off x="635652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43"/>
          <p:cNvGrpSpPr/>
          <p:nvPr/>
        </p:nvGrpSpPr>
        <p:grpSpPr>
          <a:xfrm>
            <a:off x="4938840" y="4183200"/>
            <a:ext cx="369720" cy="280800"/>
            <a:chOff x="4938840" y="4183200"/>
            <a:chExt cx="369720" cy="280800"/>
          </a:xfrm>
        </p:grpSpPr>
        <p:sp>
          <p:nvSpPr>
            <p:cNvPr id="350" name="Rectangle 44"/>
            <p:cNvSpPr/>
            <p:nvPr/>
          </p:nvSpPr>
          <p:spPr>
            <a:xfrm>
              <a:off x="493884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5"/>
            <p:cNvSpPr/>
            <p:nvPr/>
          </p:nvSpPr>
          <p:spPr>
            <a:xfrm>
              <a:off x="493884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46"/>
          <p:cNvGrpSpPr/>
          <p:nvPr/>
        </p:nvGrpSpPr>
        <p:grpSpPr>
          <a:xfrm>
            <a:off x="3506760" y="4183200"/>
            <a:ext cx="370080" cy="280800"/>
            <a:chOff x="3506760" y="4183200"/>
            <a:chExt cx="370080" cy="280800"/>
          </a:xfrm>
        </p:grpSpPr>
        <p:sp>
          <p:nvSpPr>
            <p:cNvPr id="353" name="Rectangle 47"/>
            <p:cNvSpPr/>
            <p:nvPr/>
          </p:nvSpPr>
          <p:spPr>
            <a:xfrm>
              <a:off x="3506760" y="418320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8"/>
            <p:cNvSpPr/>
            <p:nvPr/>
          </p:nvSpPr>
          <p:spPr>
            <a:xfrm>
              <a:off x="3506760" y="418320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49"/>
          <p:cNvGrpSpPr/>
          <p:nvPr/>
        </p:nvGrpSpPr>
        <p:grpSpPr>
          <a:xfrm>
            <a:off x="2055960" y="4183200"/>
            <a:ext cx="369720" cy="280800"/>
            <a:chOff x="2055960" y="4183200"/>
            <a:chExt cx="369720" cy="280800"/>
          </a:xfrm>
        </p:grpSpPr>
        <p:sp>
          <p:nvSpPr>
            <p:cNvPr id="356" name="Rectangle 50"/>
            <p:cNvSpPr/>
            <p:nvPr/>
          </p:nvSpPr>
          <p:spPr>
            <a:xfrm>
              <a:off x="205596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51"/>
            <p:cNvSpPr/>
            <p:nvPr/>
          </p:nvSpPr>
          <p:spPr>
            <a:xfrm>
              <a:off x="2055960" y="418320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52"/>
          <p:cNvSpPr/>
          <p:nvPr/>
        </p:nvSpPr>
        <p:spPr>
          <a:xfrm>
            <a:off x="5902200" y="1243080"/>
            <a:ext cx="1278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base or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3"/>
          <p:cNvSpPr/>
          <p:nvPr/>
        </p:nvSpPr>
        <p:spPr>
          <a:xfrm>
            <a:off x="1542960" y="1243080"/>
            <a:ext cx="139536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+ 3% Guaranteed annual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ge scale incre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4"/>
          <p:cNvSpPr/>
          <p:nvPr/>
        </p:nvSpPr>
        <p:spPr>
          <a:xfrm>
            <a:off x="3025800" y="1243080"/>
            <a:ext cx="1332000" cy="56016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+ 1.5% annual base pay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5"/>
          <p:cNvSpPr/>
          <p:nvPr/>
        </p:nvSpPr>
        <p:spPr>
          <a:xfrm>
            <a:off x="4452840" y="1243080"/>
            <a:ext cx="1339920" cy="56016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+ 1, 2, or 3%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o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6"/>
          <p:cNvGrpSpPr/>
          <p:nvPr/>
        </p:nvGrpSpPr>
        <p:grpSpPr>
          <a:xfrm>
            <a:off x="6316560" y="990720"/>
            <a:ext cx="451080" cy="280800"/>
            <a:chOff x="6316560" y="990720"/>
            <a:chExt cx="451080" cy="280800"/>
          </a:xfrm>
        </p:grpSpPr>
        <p:sp>
          <p:nvSpPr>
            <p:cNvPr id="363" name="Rectangle 57"/>
            <p:cNvSpPr/>
            <p:nvPr/>
          </p:nvSpPr>
          <p:spPr>
            <a:xfrm>
              <a:off x="6316560" y="990720"/>
              <a:ext cx="451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8"/>
            <p:cNvSpPr/>
            <p:nvPr/>
          </p:nvSpPr>
          <p:spPr>
            <a:xfrm>
              <a:off x="6316560" y="990720"/>
              <a:ext cx="451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59"/>
          <p:cNvSpPr/>
          <p:nvPr/>
        </p:nvSpPr>
        <p:spPr>
          <a:xfrm>
            <a:off x="4819680" y="990720"/>
            <a:ext cx="657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0"/>
          <p:cNvSpPr/>
          <p:nvPr/>
        </p:nvSpPr>
        <p:spPr>
          <a:xfrm>
            <a:off x="4819680" y="990720"/>
            <a:ext cx="657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43-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61"/>
          <p:cNvGrpSpPr/>
          <p:nvPr/>
        </p:nvGrpSpPr>
        <p:grpSpPr>
          <a:xfrm>
            <a:off x="3467160" y="990720"/>
            <a:ext cx="449280" cy="280800"/>
            <a:chOff x="3467160" y="990720"/>
            <a:chExt cx="449280" cy="280800"/>
          </a:xfrm>
        </p:grpSpPr>
        <p:sp>
          <p:nvSpPr>
            <p:cNvPr id="368" name="Rectangle 62"/>
            <p:cNvSpPr/>
            <p:nvPr/>
          </p:nvSpPr>
          <p:spPr>
            <a:xfrm>
              <a:off x="3467160" y="990720"/>
              <a:ext cx="4492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3"/>
            <p:cNvSpPr/>
            <p:nvPr/>
          </p:nvSpPr>
          <p:spPr>
            <a:xfrm>
              <a:off x="3467160" y="990720"/>
              <a:ext cx="4492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64"/>
          <p:cNvGrpSpPr/>
          <p:nvPr/>
        </p:nvGrpSpPr>
        <p:grpSpPr>
          <a:xfrm>
            <a:off x="2055960" y="990720"/>
            <a:ext cx="369720" cy="280800"/>
            <a:chOff x="2055960" y="990720"/>
            <a:chExt cx="369720" cy="280800"/>
          </a:xfrm>
        </p:grpSpPr>
        <p:sp>
          <p:nvSpPr>
            <p:cNvPr id="371" name="Rectangle 65"/>
            <p:cNvSpPr/>
            <p:nvPr/>
          </p:nvSpPr>
          <p:spPr>
            <a:xfrm>
              <a:off x="2055960" y="99072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6"/>
            <p:cNvSpPr/>
            <p:nvPr/>
          </p:nvSpPr>
          <p:spPr>
            <a:xfrm>
              <a:off x="2055960" y="99072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67"/>
          <p:cNvSpPr/>
          <p:nvPr/>
        </p:nvSpPr>
        <p:spPr>
          <a:xfrm>
            <a:off x="5902200" y="2011320"/>
            <a:ext cx="127800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Full suite of AMP policies, to be provided in Apr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8"/>
          <p:cNvSpPr/>
          <p:nvPr/>
        </p:nvSpPr>
        <p:spPr>
          <a:xfrm>
            <a:off x="1542960" y="201132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rrent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3025800" y="2011320"/>
            <a:ext cx="1332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int range: -3 t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Feb point 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turn to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452840" y="2011320"/>
            <a:ext cx="133992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rict Point Syste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Small change in Return to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1"/>
          <p:cNvSpPr/>
          <p:nvPr/>
        </p:nvSpPr>
        <p:spPr>
          <a:xfrm>
            <a:off x="6149880" y="1754280"/>
            <a:ext cx="758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2"/>
          <p:cNvSpPr/>
          <p:nvPr/>
        </p:nvSpPr>
        <p:spPr>
          <a:xfrm>
            <a:off x="6149880" y="1754280"/>
            <a:ext cx="758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20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73"/>
          <p:cNvGrpSpPr/>
          <p:nvPr/>
        </p:nvGrpSpPr>
        <p:grpSpPr>
          <a:xfrm>
            <a:off x="4938840" y="1754280"/>
            <a:ext cx="369720" cy="280800"/>
            <a:chOff x="4938840" y="1754280"/>
            <a:chExt cx="369720" cy="280800"/>
          </a:xfrm>
        </p:grpSpPr>
        <p:sp>
          <p:nvSpPr>
            <p:cNvPr id="380" name="Rectangle 74"/>
            <p:cNvSpPr/>
            <p:nvPr/>
          </p:nvSpPr>
          <p:spPr>
            <a:xfrm>
              <a:off x="493884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5"/>
            <p:cNvSpPr/>
            <p:nvPr/>
          </p:nvSpPr>
          <p:spPr>
            <a:xfrm>
              <a:off x="493884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76"/>
          <p:cNvGrpSpPr/>
          <p:nvPr/>
        </p:nvGrpSpPr>
        <p:grpSpPr>
          <a:xfrm>
            <a:off x="3422520" y="1754280"/>
            <a:ext cx="540000" cy="280800"/>
            <a:chOff x="3422520" y="1754280"/>
            <a:chExt cx="540000" cy="280800"/>
          </a:xfrm>
        </p:grpSpPr>
        <p:sp>
          <p:nvSpPr>
            <p:cNvPr id="383" name="Rectangle 77"/>
            <p:cNvSpPr/>
            <p:nvPr/>
          </p:nvSpPr>
          <p:spPr>
            <a:xfrm>
              <a:off x="3422520" y="1754280"/>
              <a:ext cx="5400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78"/>
            <p:cNvSpPr/>
            <p:nvPr/>
          </p:nvSpPr>
          <p:spPr>
            <a:xfrm>
              <a:off x="3422520" y="1754280"/>
              <a:ext cx="5400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$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79"/>
          <p:cNvGrpSpPr/>
          <p:nvPr/>
        </p:nvGrpSpPr>
        <p:grpSpPr>
          <a:xfrm>
            <a:off x="2055960" y="1754280"/>
            <a:ext cx="369720" cy="280800"/>
            <a:chOff x="2055960" y="1754280"/>
            <a:chExt cx="369720" cy="280800"/>
          </a:xfrm>
        </p:grpSpPr>
        <p:sp>
          <p:nvSpPr>
            <p:cNvPr id="386" name="Rectangle 80"/>
            <p:cNvSpPr/>
            <p:nvPr/>
          </p:nvSpPr>
          <p:spPr>
            <a:xfrm>
              <a:off x="205596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81"/>
            <p:cNvSpPr/>
            <p:nvPr/>
          </p:nvSpPr>
          <p:spPr>
            <a:xfrm>
              <a:off x="2055960" y="17542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McK 5. Source"/>
          <p:cNvSpPr/>
          <p:nvPr/>
        </p:nvSpPr>
        <p:spPr>
          <a:xfrm>
            <a:off x="119160" y="5823000"/>
            <a:ext cx="849636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alculates savings from baseline assumption of continued annual 3% wage growth per year. Assumes 100% of overall bonus is achi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If full AMP suite of Sick Bank reform and STD initiation aligns absenteeism to industry average, may capture ~$20-25M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Strict Point System policy based on Towers Watson recommen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reliminary figures, with ranges based on how much of the flexibility is ultimately used; currently only using ~5% of the 10% overall c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ps agent value of $25-50M based on 25-50% replacement of ops agent labor costs ($90M in 2011). Provo flexibility value of $15m based on $22 per flight difference between WN cost and outsource cost. Uses 784k flights per year serviced by Pro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 Assumes 737-800’s will be 5%-10% of fleet by 201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3"/>
          <p:cNvSpPr/>
          <p:nvPr/>
        </p:nvSpPr>
        <p:spPr>
          <a:xfrm>
            <a:off x="135000" y="728640"/>
            <a:ext cx="1628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84"/>
          <p:cNvGrpSpPr/>
          <p:nvPr/>
        </p:nvGrpSpPr>
        <p:grpSpPr>
          <a:xfrm>
            <a:off x="6958080" y="812880"/>
            <a:ext cx="1882800" cy="204840"/>
            <a:chOff x="6958080" y="812880"/>
            <a:chExt cx="1882800" cy="204840"/>
          </a:xfrm>
        </p:grpSpPr>
        <p:grpSp>
          <p:nvGrpSpPr>
            <p:cNvPr id="391" name="Group 85"/>
            <p:cNvGrpSpPr/>
            <p:nvPr/>
          </p:nvGrpSpPr>
          <p:grpSpPr>
            <a:xfrm>
              <a:off x="6958080" y="812880"/>
              <a:ext cx="185760" cy="187200"/>
              <a:chOff x="6958080" y="812880"/>
              <a:chExt cx="185760" cy="187200"/>
            </a:xfrm>
          </p:grpSpPr>
          <p:sp>
            <p:nvSpPr>
              <p:cNvPr id="392" name="Rectangle 86"/>
              <p:cNvSpPr/>
              <p:nvPr/>
            </p:nvSpPr>
            <p:spPr>
              <a:xfrm>
                <a:off x="6958080" y="812880"/>
                <a:ext cx="185760" cy="187200"/>
              </a:xfrm>
              <a:prstGeom prst="rect">
                <a:avLst/>
              </a:prstGeom>
              <a:solidFill>
                <a:srgbClr val="ecb92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87"/>
              <p:cNvSpPr/>
              <p:nvPr/>
            </p:nvSpPr>
            <p:spPr>
              <a:xfrm>
                <a:off x="6958080" y="812880"/>
                <a:ext cx="185760" cy="187200"/>
              </a:xfrm>
              <a:prstGeom prst="rect">
                <a:avLst/>
              </a:prstGeom>
              <a:solidFill>
                <a:srgbClr val="ecb92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0" anchor="t">
                <a:noAutofit/>
              </a:bodyPr>
              <a:p>
                <a:pPr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Rectangle 88"/>
            <p:cNvSpPr/>
            <p:nvPr/>
          </p:nvSpPr>
          <p:spPr>
            <a:xfrm>
              <a:off x="7202520" y="824040"/>
              <a:ext cx="16383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on propos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4"/>
          <p:cNvSpPr/>
          <p:nvPr/>
        </p:nvSpPr>
        <p:spPr>
          <a:xfrm>
            <a:off x="88920" y="2797200"/>
            <a:ext cx="1320840" cy="560520"/>
          </a:xfrm>
          <a:prstGeom prst="rect">
            <a:avLst/>
          </a:prstGeom>
          <a:noFill/>
          <a:ln w="25560">
            <a:solidFill>
              <a:srgbClr val="284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2000" tIns="72000" bIns="7200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28439c"/>
                </a:solidFill>
                <a:latin typeface="Arial"/>
                <a:ea typeface="Arial"/>
              </a:rPr>
              <a:t>Work force flexibility</a:t>
            </a:r>
            <a:r>
              <a:rPr b="1" lang="en-US" sz="1300" spc="-1" strike="noStrike" baseline="30000">
                <a:solidFill>
                  <a:srgbClr val="28439c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0"/>
          <p:cNvSpPr/>
          <p:nvPr/>
        </p:nvSpPr>
        <p:spPr>
          <a:xfrm>
            <a:off x="5902200" y="2797200"/>
            <a:ext cx="1278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 Caps on P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r seasonal wor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1"/>
          <p:cNvSpPr/>
          <p:nvPr/>
        </p:nvSpPr>
        <p:spPr>
          <a:xfrm>
            <a:off x="1542960" y="2797200"/>
            <a:ext cx="139536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rrent PT c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10-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2"/>
          <p:cNvSpPr/>
          <p:nvPr/>
        </p:nvSpPr>
        <p:spPr>
          <a:xfrm>
            <a:off x="3025800" y="2797200"/>
            <a:ext cx="133200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se caps to ~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% Seasonal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3"/>
          <p:cNvSpPr/>
          <p:nvPr/>
        </p:nvSpPr>
        <p:spPr>
          <a:xfrm>
            <a:off x="4452840" y="2797200"/>
            <a:ext cx="1339920" cy="560520"/>
          </a:xfrm>
          <a:prstGeom prst="rect">
            <a:avLst/>
          </a:prstGeom>
          <a:solidFill>
            <a:srgbClr val="dd1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ise caps to ~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% Seasonal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4"/>
          <p:cNvSpPr/>
          <p:nvPr/>
        </p:nvSpPr>
        <p:spPr>
          <a:xfrm>
            <a:off x="6276960" y="2533680"/>
            <a:ext cx="5284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5"/>
          <p:cNvSpPr/>
          <p:nvPr/>
        </p:nvSpPr>
        <p:spPr>
          <a:xfrm>
            <a:off x="6226200" y="2533680"/>
            <a:ext cx="630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8-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6"/>
          <p:cNvSpPr/>
          <p:nvPr/>
        </p:nvSpPr>
        <p:spPr>
          <a:xfrm>
            <a:off x="4846680" y="2533680"/>
            <a:ext cx="55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7"/>
          <p:cNvSpPr/>
          <p:nvPr/>
        </p:nvSpPr>
        <p:spPr>
          <a:xfrm>
            <a:off x="4846680" y="2533680"/>
            <a:ext cx="55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6-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98"/>
          <p:cNvGrpSpPr/>
          <p:nvPr/>
        </p:nvGrpSpPr>
        <p:grpSpPr>
          <a:xfrm>
            <a:off x="3506760" y="2533680"/>
            <a:ext cx="370080" cy="280800"/>
            <a:chOff x="3506760" y="2533680"/>
            <a:chExt cx="370080" cy="280800"/>
          </a:xfrm>
        </p:grpSpPr>
        <p:sp>
          <p:nvSpPr>
            <p:cNvPr id="405" name="Rectangle 99"/>
            <p:cNvSpPr/>
            <p:nvPr/>
          </p:nvSpPr>
          <p:spPr>
            <a:xfrm>
              <a:off x="3506760" y="253368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0"/>
            <p:cNvSpPr/>
            <p:nvPr/>
          </p:nvSpPr>
          <p:spPr>
            <a:xfrm>
              <a:off x="3506760" y="2533680"/>
              <a:ext cx="370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01"/>
          <p:cNvGrpSpPr/>
          <p:nvPr/>
        </p:nvGrpSpPr>
        <p:grpSpPr>
          <a:xfrm>
            <a:off x="2055960" y="2533680"/>
            <a:ext cx="369720" cy="280800"/>
            <a:chOff x="2055960" y="2533680"/>
            <a:chExt cx="369720" cy="280800"/>
          </a:xfrm>
        </p:grpSpPr>
        <p:sp>
          <p:nvSpPr>
            <p:cNvPr id="408" name="Rectangle 102"/>
            <p:cNvSpPr/>
            <p:nvPr/>
          </p:nvSpPr>
          <p:spPr>
            <a:xfrm>
              <a:off x="2055960" y="25336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03"/>
            <p:cNvSpPr/>
            <p:nvPr/>
          </p:nvSpPr>
          <p:spPr>
            <a:xfrm>
              <a:off x="2055960" y="2533680"/>
              <a:ext cx="369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04"/>
          <p:cNvSpPr/>
          <p:nvPr/>
        </p:nvSpPr>
        <p:spPr>
          <a:xfrm>
            <a:off x="7348680" y="2797200"/>
            <a:ext cx="1277640" cy="560520"/>
          </a:xfrm>
          <a:prstGeom prst="rect">
            <a:avLst/>
          </a:prstGeom>
          <a:solidFill>
            <a:srgbClr val="2843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ps Agent and Provisioning flexibility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5"/>
          <p:cNvSpPr/>
          <p:nvPr/>
        </p:nvSpPr>
        <p:spPr>
          <a:xfrm>
            <a:off x="7723080" y="2533680"/>
            <a:ext cx="5288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6"/>
          <p:cNvSpPr/>
          <p:nvPr/>
        </p:nvSpPr>
        <p:spPr>
          <a:xfrm>
            <a:off x="7604280" y="2533680"/>
            <a:ext cx="8697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~$40-65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7"/>
          <p:cNvSpPr/>
          <p:nvPr/>
        </p:nvSpPr>
        <p:spPr>
          <a:xfrm>
            <a:off x="38160" y="1062000"/>
            <a:ext cx="8729640" cy="2382840"/>
          </a:xfrm>
          <a:prstGeom prst="rect">
            <a:avLst/>
          </a:prstGeom>
          <a:noFill/>
          <a:ln w="38160">
            <a:solidFill>
              <a:srgbClr val="91a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8"/>
          <p:cNvSpPr/>
          <p:nvPr/>
        </p:nvSpPr>
        <p:spPr>
          <a:xfrm>
            <a:off x="7559640" y="3635280"/>
            <a:ext cx="1265400" cy="291240"/>
          </a:xfrm>
          <a:prstGeom prst="wedgeRectCallout">
            <a:avLst>
              <a:gd name="adj1" fmla="val -18518"/>
              <a:gd name="adj2" fmla="val -117037"/>
            </a:avLst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ority i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09"/>
          <p:cNvGrpSpPr/>
          <p:nvPr/>
        </p:nvGrpSpPr>
        <p:grpSpPr>
          <a:xfrm>
            <a:off x="6958080" y="581040"/>
            <a:ext cx="185760" cy="187200"/>
            <a:chOff x="6958080" y="581040"/>
            <a:chExt cx="185760" cy="187200"/>
          </a:xfrm>
        </p:grpSpPr>
        <p:sp>
          <p:nvSpPr>
            <p:cNvPr id="416" name="Rectangle 110"/>
            <p:cNvSpPr/>
            <p:nvPr/>
          </p:nvSpPr>
          <p:spPr>
            <a:xfrm>
              <a:off x="6958080" y="581040"/>
              <a:ext cx="185760" cy="187200"/>
            </a:xfrm>
            <a:prstGeom prst="rect">
              <a:avLst/>
            </a:prstGeom>
            <a:solidFill>
              <a:srgbClr val="dd1e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1"/>
            <p:cNvSpPr/>
            <p:nvPr/>
          </p:nvSpPr>
          <p:spPr>
            <a:xfrm>
              <a:off x="6958080" y="581040"/>
              <a:ext cx="185760" cy="187200"/>
            </a:xfrm>
            <a:prstGeom prst="rect">
              <a:avLst/>
            </a:prstGeom>
            <a:solidFill>
              <a:srgbClr val="dd1e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12"/>
          <p:cNvSpPr/>
          <p:nvPr/>
        </p:nvSpPr>
        <p:spPr>
          <a:xfrm>
            <a:off x="7202520" y="592200"/>
            <a:ext cx="1638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13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AutoShape 114"/>
          <p:cNvCxnSpPr>
            <a:stCxn id="419" idx="0"/>
            <a:endCxn id="419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21" name="AutoShape 115"/>
          <p:cNvCxnSpPr>
            <a:stCxn id="419" idx="2"/>
            <a:endCxn id="419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7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18AD-2443-4523-9788-520A77DBCF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46"/>
          <p:cNvSpPr/>
          <p:nvPr/>
        </p:nvSpPr>
        <p:spPr>
          <a:xfrm>
            <a:off x="4911840" y="1889280"/>
            <a:ext cx="1758960" cy="325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7"/>
          <p:cNvSpPr/>
          <p:nvPr/>
        </p:nvSpPr>
        <p:spPr>
          <a:xfrm>
            <a:off x="5637240" y="489276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6"/>
          <p:cNvSpPr/>
          <p:nvPr/>
        </p:nvSpPr>
        <p:spPr>
          <a:xfrm>
            <a:off x="4732200" y="4778280"/>
            <a:ext cx="2574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3827520" y="444492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4"/>
          <p:cNvSpPr/>
          <p:nvPr/>
        </p:nvSpPr>
        <p:spPr>
          <a:xfrm>
            <a:off x="2913120" y="389268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3"/>
          <p:cNvSpPr/>
          <p:nvPr/>
        </p:nvSpPr>
        <p:spPr>
          <a:xfrm>
            <a:off x="2008080" y="3559320"/>
            <a:ext cx="2574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2"/>
          <p:cNvSpPr/>
          <p:nvPr/>
        </p:nvSpPr>
        <p:spPr>
          <a:xfrm>
            <a:off x="1103400" y="196848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4"/>
          <p:cNvGraphicFramePr/>
          <p:nvPr/>
        </p:nvGraphicFramePr>
        <p:xfrm>
          <a:off x="227160" y="1606680"/>
          <a:ext cx="6532560" cy="36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160" y="1606680"/>
                    <a:ext cx="653256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51"/>
          <p:cNvSpPr/>
          <p:nvPr/>
        </p:nvSpPr>
        <p:spPr>
          <a:xfrm>
            <a:off x="4089240" y="4732200"/>
            <a:ext cx="638280" cy="41400"/>
          </a:xfrm>
          <a:prstGeom prst="rect">
            <a:avLst/>
          </a:prstGeom>
          <a:solidFill>
            <a:srgbClr val="75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9"/>
          <p:cNvSpPr/>
          <p:nvPr/>
        </p:nvSpPr>
        <p:spPr>
          <a:xfrm>
            <a:off x="5894280" y="5213520"/>
            <a:ext cx="803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umpstar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82"/>
          <p:cNvSpPr/>
          <p:nvPr/>
        </p:nvSpPr>
        <p:spPr>
          <a:xfrm>
            <a:off x="6032520" y="4903920"/>
            <a:ext cx="371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4"/>
          <p:cNvSpPr/>
          <p:nvPr/>
        </p:nvSpPr>
        <p:spPr>
          <a:xfrm>
            <a:off x="4989600" y="5213520"/>
            <a:ext cx="69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eedom program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0"/>
          <p:cNvSpPr/>
          <p:nvPr/>
        </p:nvSpPr>
        <p:spPr>
          <a:xfrm>
            <a:off x="5127480" y="4737240"/>
            <a:ext cx="371520" cy="198360"/>
          </a:xfrm>
          <a:prstGeom prst="rect">
            <a:avLst/>
          </a:prstGeom>
          <a:solidFill>
            <a:srgbClr val="75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9"/>
          <p:cNvSpPr/>
          <p:nvPr/>
        </p:nvSpPr>
        <p:spPr>
          <a:xfrm>
            <a:off x="4084560" y="5213520"/>
            <a:ext cx="803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vo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utsource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86"/>
          <p:cNvSpPr/>
          <p:nvPr/>
        </p:nvSpPr>
        <p:spPr>
          <a:xfrm>
            <a:off x="4295880" y="4513320"/>
            <a:ext cx="22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57"/>
          <p:cNvSpPr/>
          <p:nvPr/>
        </p:nvSpPr>
        <p:spPr>
          <a:xfrm>
            <a:off x="3170160" y="5213520"/>
            <a:ext cx="7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s agent role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74"/>
          <p:cNvSpPr/>
          <p:nvPr/>
        </p:nvSpPr>
        <p:spPr>
          <a:xfrm>
            <a:off x="3267000" y="4070520"/>
            <a:ext cx="46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5-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20"/>
          <p:cNvSpPr/>
          <p:nvPr/>
        </p:nvSpPr>
        <p:spPr>
          <a:xfrm>
            <a:off x="2265480" y="5213520"/>
            <a:ext cx="73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dditional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42"/>
          <p:cNvSpPr/>
          <p:nvPr/>
        </p:nvSpPr>
        <p:spPr>
          <a:xfrm>
            <a:off x="2476440" y="3627360"/>
            <a:ext cx="22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1360440" y="5213520"/>
            <a:ext cx="64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urrent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40"/>
          <p:cNvSpPr/>
          <p:nvPr/>
        </p:nvSpPr>
        <p:spPr>
          <a:xfrm>
            <a:off x="1571760" y="2565360"/>
            <a:ext cx="225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72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55760" y="5213520"/>
            <a:ext cx="711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jected 2015 gap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 LC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9160" y="230040"/>
            <a:ext cx="70135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Path to closing labor cost gap includes holding base rates flat, plus additional changes within and outside of contrac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49" name="Rectangle 34"/>
          <p:cNvSpPr/>
          <p:nvPr/>
        </p:nvSpPr>
        <p:spPr>
          <a:xfrm>
            <a:off x="7016760" y="1495440"/>
            <a:ext cx="1738440" cy="3711600"/>
          </a:xfrm>
          <a:prstGeom prst="rect">
            <a:avLst/>
          </a:prstGeom>
          <a:solidFill>
            <a:srgbClr val="91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5"/>
          <p:cNvSpPr/>
          <p:nvPr/>
        </p:nvSpPr>
        <p:spPr>
          <a:xfrm>
            <a:off x="7078680" y="1536840"/>
            <a:ext cx="165888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m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lding wage rates flat with no retroactive pay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has largest value in current propos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dditional contract items will still have to be considered to close ga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(e.g., Flexibility of Ops agen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ral other issues should be considere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outside of the contr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1"/>
          <p:cNvSpPr/>
          <p:nvPr/>
        </p:nvSpPr>
        <p:spPr>
          <a:xfrm>
            <a:off x="461880" y="1017720"/>
            <a:ext cx="47149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ons to close projected 2015 labor cost gap for TWU5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Millions, 20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8"/>
          <p:cNvSpPr/>
          <p:nvPr/>
        </p:nvSpPr>
        <p:spPr>
          <a:xfrm>
            <a:off x="5246640" y="2008080"/>
            <a:ext cx="1077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side of contr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McK 5. Source"/>
          <p:cNvSpPr/>
          <p:nvPr/>
        </p:nvSpPr>
        <p:spPr>
          <a:xfrm>
            <a:off x="119160" y="6057000"/>
            <a:ext cx="849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If full AMP suite of Sick Bank reform and STD initiation aligns absenteeism to industry average, may capture ~$20-25M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ps agent value of $25-50M based on 25-50% replacement of ops agent labor costs ($90M in 2011). Provo flexibility value of $15m based on $22 per flight difference between WN cost and outsource cost. Uses 784k flights per year serviced by Pro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Still being sized by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55"/>
          <p:cNvSpPr/>
          <p:nvPr/>
        </p:nvSpPr>
        <p:spPr>
          <a:xfrm>
            <a:off x="2984400" y="1550880"/>
            <a:ext cx="1640160" cy="1460520"/>
          </a:xfrm>
          <a:prstGeom prst="wedgeRectCallout">
            <a:avLst>
              <a:gd name="adj1" fmla="val 7888"/>
              <a:gd name="adj2" fmla="val 71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e in Ops agent role and Provisioning outsource have significant value, but not likely in this contr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7"/>
          <p:cNvSpPr/>
          <p:nvPr/>
        </p:nvSpPr>
        <p:spPr>
          <a:xfrm>
            <a:off x="461880" y="1440000"/>
            <a:ext cx="490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00"/>
          <p:cNvSpPr/>
          <p:nvPr/>
        </p:nvSpPr>
        <p:spPr>
          <a:xfrm>
            <a:off x="471600" y="1450800"/>
            <a:ext cx="1061640" cy="2098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1"/>
          <p:cNvCxnSpPr>
            <a:stCxn id="456" idx="0"/>
            <a:endCxn id="456" idx="1"/>
          </p:cNvCxnSpPr>
          <p:nvPr/>
        </p:nvCxnSpPr>
        <p:spPr>
          <a:xfrm>
            <a:off x="472680" y="1450440"/>
            <a:ext cx="1080" cy="210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58" name="AutoShape 202"/>
          <p:cNvCxnSpPr>
            <a:stCxn id="456" idx="2"/>
            <a:endCxn id="456" idx="3"/>
          </p:cNvCxnSpPr>
          <p:nvPr/>
        </p:nvCxnSpPr>
        <p:spPr>
          <a:xfrm>
            <a:off x="472680" y="1660320"/>
            <a:ext cx="105948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459" name="AutoShape 203"/>
          <p:cNvSpPr/>
          <p:nvPr/>
        </p:nvSpPr>
        <p:spPr>
          <a:xfrm>
            <a:off x="5959800" y="0"/>
            <a:ext cx="300348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FIDENTIAL; FOR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AutoShape 204"/>
          <p:cNvCxnSpPr>
            <a:stCxn id="459" idx="0"/>
            <a:endCxn id="459" idx="1"/>
          </p:cNvCxnSpPr>
          <p:nvPr/>
        </p:nvCxnSpPr>
        <p:spPr>
          <a:xfrm>
            <a:off x="5960880" y="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61" name="AutoShape 205"/>
          <p:cNvCxnSpPr>
            <a:stCxn id="459" idx="2"/>
            <a:endCxn id="459" idx="3"/>
          </p:cNvCxnSpPr>
          <p:nvPr/>
        </p:nvCxnSpPr>
        <p:spPr>
          <a:xfrm>
            <a:off x="5961240" y="209160"/>
            <a:ext cx="300096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462" name="Rectangle 272"/>
          <p:cNvSpPr/>
          <p:nvPr/>
        </p:nvSpPr>
        <p:spPr>
          <a:xfrm>
            <a:off x="3098880" y="3281400"/>
            <a:ext cx="1736640" cy="1577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>Virginia Casas</dc:creator>
  <dc:description/>
  <dc:language>en-US</dc:language>
  <cp:lastModifiedBy>e90145</cp:lastModifiedBy>
  <cp:lastPrinted>2012-01-30T14:33:31Z</cp:lastPrinted>
  <dcterms:modified xsi:type="dcterms:W3CDTF">2012-05-29T16:18:42Z</dcterms:modified>
  <cp:revision>159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>February 7, 2012</vt:lpwstr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