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384120" y="685440"/>
            <a:ext cx="60897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F1E8-A28B-4BF1-8C74-F89B0219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5800"/>
                <a:tab algn="l" pos="3459240"/>
                <a:tab algn="l" pos="3890880"/>
                <a:tab algn="l" pos="4324320"/>
                <a:tab algn="l" pos="4756320"/>
                <a:tab algn="l" pos="5189400"/>
                <a:tab algn="l" pos="5621400"/>
                <a:tab algn="l" pos="6053040"/>
                <a:tab algn="l" pos="6486480"/>
                <a:tab algn="l" pos="6918480"/>
                <a:tab algn="l" pos="7351560"/>
                <a:tab algn="l" pos="7783560"/>
                <a:tab algn="l" pos="8215200"/>
                <a:tab algn="l" pos="8648640"/>
                <a:tab algn="l" pos="9144000"/>
                <a:tab algn="l" pos="10058400"/>
              </a:tabLst>
            </a:pPr>
            <a:fld id="{D8D1DE88-5141-4311-81B8-C29E3AEF8584}" type="slidenum">
              <a:rPr b="0" lang="en-US" sz="1200" spc="-1" strike="noStrike">
                <a:solidFill>
                  <a:srgbClr val="000000"/>
                </a:solidFill>
                <a:latin typeface="Futura Lt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79360" y="685800"/>
            <a:ext cx="45007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3BFC-2238-4003-A0BB-6F01432CC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84120" y="685800"/>
            <a:ext cx="608976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822924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4080"/>
            <a:ext cx="822924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456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456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408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408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4080"/>
            <a:ext cx="26496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4560"/>
            <a:ext cx="822924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822924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29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408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4560"/>
            <a:ext cx="401580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4080"/>
            <a:ext cx="8229240" cy="14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heelTug_arrows_logo_watermark_wide"/>
          <p:cNvPicPr/>
          <p:nvPr/>
        </p:nvPicPr>
        <p:blipFill>
          <a:blip r:embed="rId2"/>
          <a:stretch/>
        </p:blipFill>
        <p:spPr>
          <a:xfrm>
            <a:off x="-150840" y="-88920"/>
            <a:ext cx="9447120" cy="532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75248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497480" y="4862520"/>
            <a:ext cx="226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33404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 Ma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Isaiah Cox, +1 410 419 0082, exec@wheeltu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soutwest_logoplane"/>
          <p:cNvPicPr/>
          <p:nvPr/>
        </p:nvPicPr>
        <p:blipFill>
          <a:blip r:embed="rId1"/>
          <a:stretch/>
        </p:blipFill>
        <p:spPr>
          <a:xfrm>
            <a:off x="4219560" y="1963800"/>
            <a:ext cx="4276800" cy="128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outhwest_logotext"/>
          <p:cNvPicPr/>
          <p:nvPr/>
        </p:nvPicPr>
        <p:blipFill>
          <a:blip r:embed="rId2"/>
          <a:stretch/>
        </p:blipFill>
        <p:spPr>
          <a:xfrm>
            <a:off x="4148280" y="3384720"/>
            <a:ext cx="4538520" cy="58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_x0018_driving_aerospace2 2.pdf                                       0007D9CD_x000c_Macintosh HD                   C7656AB7:"/>
          <p:cNvPicPr/>
          <p:nvPr/>
        </p:nvPicPr>
        <p:blipFill>
          <a:blip r:embed="rId3"/>
          <a:srcRect l="0" t="23992" r="3019" b="21582"/>
          <a:stretch/>
        </p:blipFill>
        <p:spPr>
          <a:xfrm>
            <a:off x="1676520" y="33480"/>
            <a:ext cx="5790960" cy="1625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&#10;heart3.gif                                                     00877376_x0005_apple                          BCBA5D29: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654200" y="2116080"/>
            <a:ext cx="22320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thwest’s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" y="1222200"/>
            <a:ext cx="8686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ar-term major and binding commitment to adopt WheelTugs is unlikely for Southwest, given its other undertaking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ources are very tight, and WheelTug, though exciting with massive profit potential, will drive numerous changes across the organization. Change takes time, which means the process will take a lo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y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LUV does not reserve slots now, EIS on LUV’s fleet will be pushed back to 2015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182600" y="55440"/>
            <a:ext cx="6778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28600" y="860400"/>
            <a:ext cx="8763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1240" indent="-741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ter of In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rves delivery slot until in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ts are first-come, first-served, so LUV would start at Slot 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s airline interests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s LUV in the driver’s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y July 2012, project &gt;1,000 systems allocate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ing 2 years of system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se 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o be agreed 6 months before deliv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e based on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V saves from Da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182600" y="55440"/>
            <a:ext cx="6778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posal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" y="860400"/>
            <a:ext cx="8763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12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Tug can test the system on a Southwest 737NG, @ BWI in June. PR benefits w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west would have the best position in the industry to assess WheelTug up close, and get comfortable with the system and technical development t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WheelTug demonstrator is ready to go, and prep is in place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74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43400" y="4843440"/>
            <a:ext cx="150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_x0018_driving_aerospace2 2.pdf                                       0007D9CD_x000c_Macintosh HD                   C7656AB7:"/>
          <p:cNvPicPr/>
          <p:nvPr/>
        </p:nvPicPr>
        <p:blipFill>
          <a:blip r:embed="rId1"/>
          <a:srcRect l="0" t="23942" r="3062" b="21603"/>
          <a:stretch/>
        </p:blipFill>
        <p:spPr>
          <a:xfrm>
            <a:off x="2209680" y="-17640"/>
            <a:ext cx="4724640" cy="133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l_al_logo2.jpg"/>
          <p:cNvPicPr/>
          <p:nvPr/>
        </p:nvPicPr>
        <p:blipFill>
          <a:blip r:embed="rId2"/>
          <a:stretch/>
        </p:blipFill>
        <p:spPr>
          <a:xfrm>
            <a:off x="152280" y="2316240"/>
            <a:ext cx="388620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572000" y="1859040"/>
            <a:ext cx="4191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unch Customers: A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0" y="1859040"/>
            <a:ext cx="4191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unch Customers: 737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2" descr=""/>
          <p:cNvPicPr/>
          <p:nvPr/>
        </p:nvPicPr>
        <p:blipFill>
          <a:blip r:embed="rId3"/>
          <a:stretch/>
        </p:blipFill>
        <p:spPr>
          <a:xfrm>
            <a:off x="152280" y="3247920"/>
            <a:ext cx="401976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4"/>
          <a:stretch/>
        </p:blipFill>
        <p:spPr>
          <a:xfrm>
            <a:off x="4952880" y="3076560"/>
            <a:ext cx="3892680" cy="901800"/>
          </a:xfrm>
          <a:prstGeom prst="rect">
            <a:avLst/>
          </a:prstGeom>
          <a:ln w="0">
            <a:noFill/>
          </a:ln>
        </p:spPr>
      </p:pic>
      <p:pic>
        <p:nvPicPr>
          <p:cNvPr id="58" name="il_fi" descr="http://moscow.aero/airlines/pic/israir/logo_israir.gif"/>
          <p:cNvPicPr/>
          <p:nvPr/>
        </p:nvPicPr>
        <p:blipFill>
          <a:blip r:embed="rId5"/>
          <a:stretch/>
        </p:blipFill>
        <p:spPr>
          <a:xfrm>
            <a:off x="4618080" y="2265480"/>
            <a:ext cx="4145040" cy="734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4724280" y="3992400"/>
            <a:ext cx="40388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10 A320 Slo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gt;1,000 more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28600" y="3992400"/>
            <a:ext cx="38098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5 737NG Slo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gt;1,000 more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wheeltug_pushback2d.jpg"/>
          <p:cNvPicPr/>
          <p:nvPr/>
        </p:nvPicPr>
        <p:blipFill>
          <a:blip r:embed="rId1"/>
          <a:stretch/>
        </p:blipFill>
        <p:spPr>
          <a:xfrm>
            <a:off x="4700520" y="1125360"/>
            <a:ext cx="200520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wheeltug_pushback1d.jpg"/>
          <p:cNvPicPr/>
          <p:nvPr/>
        </p:nvPicPr>
        <p:blipFill>
          <a:blip r:embed="rId2"/>
          <a:stretch/>
        </p:blipFill>
        <p:spPr>
          <a:xfrm>
            <a:off x="380880" y="1158840"/>
            <a:ext cx="1987560" cy="3776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0"/>
            <a:ext cx="906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3840"/>
                <a:tab algn="l" pos="1535040"/>
                <a:tab algn="l" pos="2048040"/>
                <a:tab algn="l" pos="2560680"/>
                <a:tab algn="l" pos="3073320"/>
                <a:tab algn="l" pos="3584520"/>
                <a:tab algn="l" pos="4095720"/>
                <a:tab algn="l" pos="4608360"/>
                <a:tab algn="l" pos="5119560"/>
                <a:tab algn="l" pos="5632560"/>
                <a:tab algn="l" pos="6143760"/>
                <a:tab algn="l" pos="6657840"/>
                <a:tab algn="l" pos="7169040"/>
                <a:tab algn="l" pos="7677000"/>
                <a:tab algn="l" pos="8190000"/>
                <a:tab algn="l" pos="8701200"/>
                <a:tab algn="l" pos="9213840"/>
                <a:tab algn="l" pos="9725040"/>
                <a:tab algn="l" pos="10237680"/>
                <a:tab algn="l" pos="10734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xiing with and without WheelT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625840" y="1568520"/>
            <a:ext cx="15984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Engine active from landing to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625840" y="2471760"/>
            <a:ext cx="19047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Tug required for pushback from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2619360" y="3305160"/>
            <a:ext cx="15987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Engine active from  terminal to take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380880" y="674640"/>
            <a:ext cx="23623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Futura Lt BT"/>
              </a:rPr>
              <a:t>Without WheelTu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6989760" y="3197160"/>
            <a:ext cx="19051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WheelTug active from  terminal until warm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 flipV="1">
            <a:off x="1317240" y="2568600"/>
            <a:ext cx="127332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4800600" y="674640"/>
            <a:ext cx="19810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Futura Lt BT"/>
              </a:rPr>
              <a:t>With WheelTu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989760" y="1430280"/>
            <a:ext cx="17524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WheelTug active from landing to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989760" y="2401920"/>
            <a:ext cx="20779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WheelTug to/from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339933"/>
                </a:solidFill>
                <a:latin typeface="Futura Lt BT"/>
              </a:rPr>
              <a:t>No tug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6989760" y="4375080"/>
            <a:ext cx="20779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000" spc="-1" strike="noStrike" baseline="-25000">
                <a:solidFill>
                  <a:srgbClr val="ff0000"/>
                </a:solidFill>
                <a:latin typeface="Futura Lt BT"/>
              </a:rPr>
              <a:t>Engine active from  warmup to take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7"/>
          <p:cNvSpPr/>
          <p:nvPr/>
        </p:nvSpPr>
        <p:spPr>
          <a:xfrm flipH="1" flipV="1">
            <a:off x="5646240" y="2541600"/>
            <a:ext cx="13827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8"/>
          <p:cNvSpPr/>
          <p:nvPr/>
        </p:nvSpPr>
        <p:spPr>
          <a:xfrm flipH="1" flipV="1">
            <a:off x="5846760" y="1766880"/>
            <a:ext cx="110808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1"/>
          <p:cNvSpPr/>
          <p:nvPr/>
        </p:nvSpPr>
        <p:spPr>
          <a:xfrm flipH="1">
            <a:off x="6461280" y="4729320"/>
            <a:ext cx="475920" cy="15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37"/>
          <p:cNvSpPr/>
          <p:nvPr/>
        </p:nvSpPr>
        <p:spPr>
          <a:xfrm flipH="1" flipV="1">
            <a:off x="1525320" y="1809720"/>
            <a:ext cx="98748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7"/>
          <p:cNvSpPr/>
          <p:nvPr/>
        </p:nvSpPr>
        <p:spPr>
          <a:xfrm>
            <a:off x="5119560" y="1600200"/>
            <a:ext cx="60984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339933"/>
                </a:solidFill>
                <a:latin typeface="Futura Lt BT"/>
                <a:ea typeface="Times New Roman"/>
              </a:rPr>
              <a:t>Tax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9"/>
          <p:cNvSpPr/>
          <p:nvPr/>
        </p:nvSpPr>
        <p:spPr>
          <a:xfrm>
            <a:off x="5132520" y="4168800"/>
            <a:ext cx="60948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339933"/>
                </a:solidFill>
                <a:latin typeface="Futura Lt BT"/>
                <a:ea typeface="Times New Roman"/>
              </a:rPr>
              <a:t>Taxi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0"/>
          <p:cNvSpPr/>
          <p:nvPr/>
        </p:nvSpPr>
        <p:spPr>
          <a:xfrm>
            <a:off x="838080" y="4173480"/>
            <a:ext cx="60984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ff0000"/>
                </a:solidFill>
                <a:latin typeface="Futura Lt BT"/>
                <a:ea typeface="Times New Roman"/>
              </a:rPr>
              <a:t>Taxi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838080" y="1582560"/>
            <a:ext cx="609840" cy="9165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240" rIns="102240" tIns="0" bIns="153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200" spc="-1" strike="noStrike" baseline="-25000">
                <a:solidFill>
                  <a:srgbClr val="ff0000"/>
                </a:solidFill>
                <a:latin typeface="Futura Lt BT"/>
                <a:ea typeface="Times New Roman"/>
              </a:rPr>
              <a:t>Tax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8"/>
          <p:cNvSpPr/>
          <p:nvPr/>
        </p:nvSpPr>
        <p:spPr>
          <a:xfrm flipH="1" flipV="1">
            <a:off x="1525320" y="3395520"/>
            <a:ext cx="98748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9"/>
          <p:cNvSpPr/>
          <p:nvPr/>
        </p:nvSpPr>
        <p:spPr>
          <a:xfrm flipH="1" flipV="1">
            <a:off x="5864400" y="3467160"/>
            <a:ext cx="110808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WheelTug-Cockpit_Side_View2.jpg"/>
          <p:cNvPicPr/>
          <p:nvPr/>
        </p:nvPicPr>
        <p:blipFill>
          <a:blip r:embed="rId1"/>
          <a:stretch/>
        </p:blipFill>
        <p:spPr>
          <a:xfrm>
            <a:off x="2411280" y="973080"/>
            <a:ext cx="3227400" cy="3889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1386000" y="74520"/>
            <a:ext cx="6164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WheelTug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CEBOX.jpg"/>
          <p:cNvPicPr/>
          <p:nvPr/>
        </p:nvPicPr>
        <p:blipFill>
          <a:blip r:embed="rId2"/>
          <a:stretch/>
        </p:blipFill>
        <p:spPr>
          <a:xfrm>
            <a:off x="5765760" y="3564000"/>
            <a:ext cx="33782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slide0056"/>
          <p:cNvPicPr/>
          <p:nvPr/>
        </p:nvPicPr>
        <p:blipFill>
          <a:blip r:embed="rId3"/>
          <a:stretch/>
        </p:blipFill>
        <p:spPr>
          <a:xfrm>
            <a:off x="152280" y="973080"/>
            <a:ext cx="1879560" cy="385920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10"/>
          <p:cNvSpPr/>
          <p:nvPr/>
        </p:nvSpPr>
        <p:spPr>
          <a:xfrm>
            <a:off x="4267080" y="3716280"/>
            <a:ext cx="1498680" cy="4953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WheelTug_panel_iso1.jpg"/>
          <p:cNvPicPr/>
          <p:nvPr/>
        </p:nvPicPr>
        <p:blipFill>
          <a:blip r:embed="rId4"/>
          <a:stretch/>
        </p:blipFill>
        <p:spPr>
          <a:xfrm>
            <a:off x="5924520" y="898560"/>
            <a:ext cx="3352680" cy="259236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7"/>
          <p:cNvSpPr/>
          <p:nvPr/>
        </p:nvSpPr>
        <p:spPr>
          <a:xfrm>
            <a:off x="5257800" y="1887480"/>
            <a:ext cx="9144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6"/>
          <p:cNvSpPr/>
          <p:nvPr/>
        </p:nvSpPr>
        <p:spPr>
          <a:xfrm>
            <a:off x="2057400" y="3182760"/>
            <a:ext cx="7621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27"/>
          <p:cNvSpPr/>
          <p:nvPr/>
        </p:nvSpPr>
        <p:spPr>
          <a:xfrm>
            <a:off x="4419720" y="446040"/>
            <a:ext cx="441936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520" bIns="4752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Rapid retrof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- installable in 2 sh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wer from the 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A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 connection to aircraft data bus or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ster Minimum Equipment List (MMEL) – system does not need to function for aircraft 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Fi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existing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eel well 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2040"/>
                <a:tab algn="l" pos="1397160"/>
                <a:tab algn="l" pos="1863720"/>
                <a:tab algn="l" pos="2327400"/>
                <a:tab algn="l" pos="2795760"/>
                <a:tab algn="l" pos="3260880"/>
                <a:tab algn="l" pos="3726000"/>
                <a:tab algn="l" pos="4192560"/>
                <a:tab algn="l" pos="4657680"/>
                <a:tab algn="l" pos="5124600"/>
                <a:tab algn="l" pos="5589720"/>
                <a:tab algn="l" pos="6054840"/>
                <a:tab algn="l" pos="6519960"/>
                <a:tab algn="l" pos="6985080"/>
                <a:tab algn="l" pos="7451640"/>
                <a:tab algn="l" pos="7916760"/>
                <a:tab algn="l" pos="8383680"/>
                <a:tab algn="l" pos="8848800"/>
                <a:tab algn="l" pos="9315360"/>
                <a:tab algn="l" pos="9767880"/>
                <a:tab algn="l" pos="10233000"/>
                <a:tab algn="l" pos="10698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WheelTug_Partners-2012-04 1.jpg"/>
          <p:cNvPicPr/>
          <p:nvPr/>
        </p:nvPicPr>
        <p:blipFill>
          <a:blip r:embed="rId1"/>
          <a:stretch/>
        </p:blipFill>
        <p:spPr>
          <a:xfrm>
            <a:off x="533520" y="363600"/>
            <a:ext cx="3657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1222200"/>
            <a:ext cx="8686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elTug off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ly savings of more than $500k per aircraft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240 million across LUV’s flee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er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valent to 6-7% fuel bur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00% the value of winglets, and 50% of the savings from re-engin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overnight retrof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isting fle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ower-by-the-h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ir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with South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" y="1222200"/>
            <a:ext cx="8686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Tug first met with Gary Kelly and Mike Van de Ven in early 2009. LUV Action wa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hn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conclusions were positive: WheelTug savings are large, and could make an enormous impact on the bottom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conclusion was that WheelTug was early stage, and Boeing raised dou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208160" y="60480"/>
            <a:ext cx="677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ess since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85080" cy="346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1.jpg"/>
          <p:cNvPicPr/>
          <p:nvPr/>
        </p:nvPicPr>
        <p:blipFill>
          <a:blip r:embed="rId2"/>
          <a:stretch/>
        </p:blipFill>
        <p:spPr>
          <a:xfrm>
            <a:off x="438120" y="2954160"/>
            <a:ext cx="23050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143000" y="63360"/>
            <a:ext cx="67816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ic Taxi is Com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03040" y="797040"/>
            <a:ext cx="627408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ran/Honeywell, developing main wheel solution. Have purchased an aircraft for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ted airlines inclu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jet, Delta, U.S. Airways, Air France, American Air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-3 Communications and Lufthansa Technik: Dec 201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nst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een Taxi using main wheel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elTug: Development most advanced. First announced customers, in Israir and Al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irbus is supporting all A320 electric taxi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33440"/>
                <a:tab algn="l" pos="890640"/>
                <a:tab algn="l" pos="1347840"/>
                <a:tab algn="l" pos="1805040"/>
                <a:tab algn="l" pos="2262240"/>
                <a:tab algn="l" pos="2719440"/>
                <a:tab algn="l" pos="3176640"/>
                <a:tab algn="l" pos="3633840"/>
                <a:tab algn="l" pos="4091040"/>
                <a:tab algn="l" pos="4548240"/>
                <a:tab algn="l" pos="5005440"/>
                <a:tab algn="l" pos="5462640"/>
                <a:tab algn="l" pos="5919840"/>
                <a:tab algn="l" pos="6377040"/>
                <a:tab algn="l" pos="68342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ttp://www.flightglobal.com/assets/getasset.aspx?itemid=44515"/>
          <p:cNvPicPr/>
          <p:nvPr/>
        </p:nvPicPr>
        <p:blipFill>
          <a:blip r:embed="rId1"/>
          <a:stretch/>
        </p:blipFill>
        <p:spPr>
          <a:xfrm>
            <a:off x="6477120" y="896760"/>
            <a:ext cx="2444760" cy="1632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L-3 Taxi.tiff"/>
          <p:cNvPicPr/>
          <p:nvPr/>
        </p:nvPicPr>
        <p:blipFill>
          <a:blip r:embed="rId2"/>
          <a:stretch/>
        </p:blipFill>
        <p:spPr>
          <a:xfrm>
            <a:off x="6335640" y="3335400"/>
            <a:ext cx="28846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1:29:03Z</dcterms:created>
  <dc:creator>WheelTug plc</dc:creator>
  <dc:description/>
  <dc:language>en-US</dc:language>
  <cp:lastModifiedBy> </cp:lastModifiedBy>
  <dcterms:modified xsi:type="dcterms:W3CDTF">2012-05-16T21:07:14Z</dcterms:modified>
  <cp:revision>107</cp:revision>
  <dc:subject/>
  <dc:title>WheelTug</dc:title>
</cp:coreProperties>
</file>