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8959850" cy="6721475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757080" y="580680"/>
            <a:ext cx="5438880" cy="407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2"/>
          </p:nvPr>
        </p:nvSpPr>
        <p:spPr>
          <a:xfrm>
            <a:off x="6199200" y="8902440"/>
            <a:ext cx="550800" cy="18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B3C8D36-A66A-4458-B07C-FFFA0FDD3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3"/>
          </p:nvPr>
        </p:nvSpPr>
        <p:spPr>
          <a:xfrm>
            <a:off x="6454800" y="96840"/>
            <a:ext cx="2952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7570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199200" y="89038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7C6A2AD-CC04-414A-B0C8-F0D0B18C9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6199200" y="89038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7DE7CEF-0958-4669-8EF3-9F0317B65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7570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ADD2-980A-4A12-974B-4B4D7B111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5B2F-3CE0-4E91-A09A-1B8F1FFD7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C07E-9E68-4859-A6F4-D6788055C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1810-504B-4163-A717-2C211BE97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D106-003C-44B4-80E3-E1BD8CA36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FA23-B39B-4CC1-9964-53FC4DB10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F4E3-E219-4EEF-B8F8-AB7A45DA5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D022-629B-433B-8E40-987B60EE9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D741-1DFD-4FBC-91DD-DF80891FD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F566-6C64-4912-8777-8674A40E0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2BD4-3EC6-4F0C-9F3F-270A43893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E5F8-A5D3-46F0-B54A-86A68D177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" name="McK 1. On-page tracker" hidden="1"/>
          <p:cNvSpPr/>
          <p:nvPr/>
        </p:nvSpPr>
        <p:spPr>
          <a:xfrm>
            <a:off x="119520" y="27000"/>
            <a:ext cx="8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McK 3. Unit of measure" hidden="1"/>
          <p:cNvSpPr/>
          <p:nvPr/>
        </p:nvSpPr>
        <p:spPr>
          <a:xfrm>
            <a:off x="119160" y="53172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nit of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19160" y="6080040"/>
            <a:ext cx="8548560" cy="508320"/>
            <a:chOff x="119160" y="6080040"/>
            <a:chExt cx="8548560" cy="508320"/>
          </a:xfrm>
        </p:grpSpPr>
        <p:sp>
          <p:nvSpPr>
            <p:cNvPr id="4" name="McK 4. Footnote" hidden="1"/>
            <p:cNvSpPr/>
            <p:nvPr/>
          </p:nvSpPr>
          <p:spPr>
            <a:xfrm>
              <a:off x="119160" y="6080040"/>
              <a:ext cx="854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760" indent="-10476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Footn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McK 5. Source" hidden="1"/>
            <p:cNvSpPr/>
            <p:nvPr/>
          </p:nvSpPr>
          <p:spPr>
            <a:xfrm>
              <a:off x="119160" y="6435720"/>
              <a:ext cx="686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09480" indent="-609480">
                <a:tabLst>
                  <a:tab algn="l" pos="0"/>
                  <a:tab algn="l" pos="6127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ACET"/>
          <p:cNvGrpSpPr/>
          <p:nvPr/>
        </p:nvGrpSpPr>
        <p:grpSpPr>
          <a:xfrm>
            <a:off x="1452600" y="1129680"/>
            <a:ext cx="4264200" cy="505800"/>
            <a:chOff x="1452600" y="1129680"/>
            <a:chExt cx="4264200" cy="505800"/>
          </a:xfrm>
        </p:grpSpPr>
        <p:cxnSp>
          <p:nvCxnSpPr>
            <p:cNvPr id="7" name="AutoShape 249"/>
            <p:cNvCxnSpPr/>
            <p:nvPr/>
          </p:nvCxnSpPr>
          <p:spPr>
            <a:xfrm>
              <a:off x="1452600" y="1634760"/>
              <a:ext cx="426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" name="AutoShape 250" hidden="1"/>
            <p:cNvSpPr/>
            <p:nvPr/>
          </p:nvSpPr>
          <p:spPr>
            <a:xfrm>
              <a:off x="1452600" y="1129680"/>
              <a:ext cx="4263840" cy="50544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36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8545680" y="6435360"/>
            <a:ext cx="195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3DF7-BA34-4439-91DA-0C91721867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Working Draft" hidden="1"/>
          <p:cNvSpPr/>
          <p:nvPr/>
        </p:nvSpPr>
        <p:spPr>
          <a:xfrm rot="5400000">
            <a:off x="8007480" y="2772720"/>
            <a:ext cx="1768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orking Draft - Last Modified 7/17/2012 8:28:22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inted" hidden="1"/>
          <p:cNvSpPr/>
          <p:nvPr/>
        </p:nvSpPr>
        <p:spPr>
          <a:xfrm rot="5400000">
            <a:off x="8361000" y="3852000"/>
            <a:ext cx="1061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inted 7/17/2012 12:44:12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doc id"/>
          <p:cNvSpPr/>
          <p:nvPr/>
        </p:nvSpPr>
        <p:spPr>
          <a:xfrm>
            <a:off x="8082000" y="36360"/>
            <a:ext cx="657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99" descr="southwest"/>
          <p:cNvPicPr/>
          <p:nvPr/>
        </p:nvPicPr>
        <p:blipFill>
          <a:blip r:embed="rId2"/>
          <a:srcRect l="6775" t="0" r="11232" b="25902"/>
          <a:stretch/>
        </p:blipFill>
        <p:spPr>
          <a:xfrm>
            <a:off x="7408800" y="223920"/>
            <a:ext cx="132408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king Draft Text" hidden="1"/>
          <p:cNvSpPr/>
          <p:nvPr/>
        </p:nvSpPr>
        <p:spPr>
          <a:xfrm>
            <a:off x="2639880" y="343080"/>
            <a:ext cx="98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ING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king Draft" hidden="1"/>
          <p:cNvSpPr/>
          <p:nvPr/>
        </p:nvSpPr>
        <p:spPr>
          <a:xfrm>
            <a:off x="2602080" y="498600"/>
            <a:ext cx="3035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st Modified 7/17/2012 8:28:22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rinted" hidden="1"/>
          <p:cNvSpPr/>
          <p:nvPr/>
        </p:nvSpPr>
        <p:spPr>
          <a:xfrm>
            <a:off x="1431720" y="655560"/>
            <a:ext cx="2778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nted 7/17/2012 12:44:12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McK Title Elements"/>
          <p:cNvGrpSpPr/>
          <p:nvPr/>
        </p:nvGrpSpPr>
        <p:grpSpPr>
          <a:xfrm>
            <a:off x="0" y="0"/>
            <a:ext cx="8958240" cy="6723000"/>
            <a:chOff x="0" y="0"/>
            <a:chExt cx="8958240" cy="6723000"/>
          </a:xfrm>
        </p:grpSpPr>
        <p:sp>
          <p:nvSpPr>
            <p:cNvPr id="55" name="McK Document type" hidden="1"/>
            <p:cNvSpPr/>
            <p:nvPr/>
          </p:nvSpPr>
          <p:spPr>
            <a:xfrm>
              <a:off x="2639880" y="493308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 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McK Date" hidden="1"/>
            <p:cNvSpPr/>
            <p:nvPr/>
          </p:nvSpPr>
          <p:spPr>
            <a:xfrm>
              <a:off x="2639880" y="519912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McK Disclaimer" hidden="1"/>
            <p:cNvSpPr/>
            <p:nvPr/>
          </p:nvSpPr>
          <p:spPr>
            <a:xfrm>
              <a:off x="2639880" y="6018480"/>
              <a:ext cx="4408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FIDENTIAL AND PROPRIET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itleBottomPlaceholder" hidden="1"/>
            <p:cNvSpPr/>
            <p:nvPr/>
          </p:nvSpPr>
          <p:spPr>
            <a:xfrm>
              <a:off x="0" y="2238480"/>
              <a:ext cx="2193840" cy="4484520"/>
            </a:xfrm>
            <a:prstGeom prst="rect">
              <a:avLst/>
            </a:prstGeom>
            <a:solidFill>
              <a:srgbClr val="006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itleTopPlaceholder" hidden="1"/>
            <p:cNvSpPr/>
            <p:nvPr/>
          </p:nvSpPr>
          <p:spPr>
            <a:xfrm>
              <a:off x="0" y="0"/>
              <a:ext cx="2193840" cy="2238480"/>
            </a:xfrm>
            <a:prstGeom prst="rect">
              <a:avLst/>
            </a:prstGeom>
            <a:solidFill>
              <a:srgbClr val="9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89" hidden="1"/>
            <p:cNvSpPr/>
            <p:nvPr/>
          </p:nvSpPr>
          <p:spPr>
            <a:xfrm>
              <a:off x="0" y="0"/>
              <a:ext cx="8958240" cy="6721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TitleBottomBarBW" descr=""/>
          <p:cNvPicPr/>
          <p:nvPr/>
        </p:nvPicPr>
        <p:blipFill>
          <a:blip r:embed="rId2"/>
          <a:stretch/>
        </p:blipFill>
        <p:spPr>
          <a:xfrm>
            <a:off x="7174080" y="6443640"/>
            <a:ext cx="1636560" cy="192240"/>
          </a:xfrm>
          <a:prstGeom prst="rect">
            <a:avLst/>
          </a:prstGeom>
          <a:ln w="0">
            <a:noFill/>
          </a:ln>
        </p:spPr>
      </p:pic>
      <p:sp>
        <p:nvSpPr>
          <p:cNvPr id="62" name="doc id"/>
          <p:cNvSpPr/>
          <p:nvPr/>
        </p:nvSpPr>
        <p:spPr>
          <a:xfrm>
            <a:off x="8442360" y="36360"/>
            <a:ext cx="2952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7EC9-E174-4F38-B67F-6DD8605241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oday’s discussion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36680" y="1846440"/>
            <a:ext cx="62722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 on objectives, long term roadmap, and ‘ground rule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log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elements of competitive landscape that we want to cover in the next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3A4A-594D-4430-95FD-ACB51BAFDD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Objectives and long term roadmap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11" name="Freeform 4"/>
          <p:cNvSpPr/>
          <p:nvPr/>
        </p:nvSpPr>
        <p:spPr>
          <a:xfrm>
            <a:off x="1287360" y="1563840"/>
            <a:ext cx="1995480" cy="838080"/>
          </a:xfrm>
          <a:custGeom>
            <a:avLst/>
            <a:gdLst>
              <a:gd name="textAreaLeft" fmla="*/ 0 w 1995480"/>
              <a:gd name="textAreaRight" fmla="*/ 1995840 w 19954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86" h="576">
                <a:moveTo>
                  <a:pt x="0" y="0"/>
                </a:moveTo>
                <a:lnTo>
                  <a:pt x="882" y="0"/>
                </a:lnTo>
                <a:lnTo>
                  <a:pt x="986" y="288"/>
                </a:lnTo>
                <a:lnTo>
                  <a:pt x="882" y="576"/>
                </a:lnTo>
                <a:lnTo>
                  <a:pt x="0" y="576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362240" y="1614600"/>
            <a:ext cx="16509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lign 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3249720" y="1563840"/>
            <a:ext cx="1857240" cy="8380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0" h="576">
                <a:moveTo>
                  <a:pt x="0" y="0"/>
                </a:moveTo>
                <a:lnTo>
                  <a:pt x="886" y="0"/>
                </a:lnTo>
                <a:lnTo>
                  <a:pt x="990" y="288"/>
                </a:lnTo>
                <a:lnTo>
                  <a:pt x="886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483000" y="1614600"/>
            <a:ext cx="14097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gree on detailed set of fa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8"/>
          <p:cNvSpPr/>
          <p:nvPr/>
        </p:nvSpPr>
        <p:spPr>
          <a:xfrm>
            <a:off x="5072040" y="1563840"/>
            <a:ext cx="1857240" cy="8380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0" h="576">
                <a:moveTo>
                  <a:pt x="0" y="0"/>
                </a:moveTo>
                <a:lnTo>
                  <a:pt x="886" y="0"/>
                </a:lnTo>
                <a:lnTo>
                  <a:pt x="990" y="288"/>
                </a:lnTo>
                <a:lnTo>
                  <a:pt x="886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321160" y="1614600"/>
            <a:ext cx="14097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t joi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0"/>
          <p:cNvSpPr/>
          <p:nvPr/>
        </p:nvSpPr>
        <p:spPr>
          <a:xfrm>
            <a:off x="6862680" y="1563840"/>
            <a:ext cx="1973520" cy="83808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1" h="576">
                <a:moveTo>
                  <a:pt x="0" y="0"/>
                </a:moveTo>
                <a:lnTo>
                  <a:pt x="887" y="0"/>
                </a:lnTo>
                <a:lnTo>
                  <a:pt x="991" y="288"/>
                </a:lnTo>
                <a:lnTo>
                  <a:pt x="887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7115040" y="1614600"/>
            <a:ext cx="154332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ointly solve how to meet go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3259080" y="2906640"/>
            <a:ext cx="167328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ign on common fact base to use going forwar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verall Flight Ops CA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son to competitors (e.g., wage scales, BH per pilo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5024520" y="2906640"/>
            <a:ext cx="17589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ree on specific financial targets to reach in both short- term and long-term (e.g., Flight Ops CASM of $X by 2015 and $Y by 202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6939000" y="2906640"/>
            <a:ext cx="17748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 together to agree on path to meet financial targ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entually translate high level concepts into contract language (need to decide when to transfer to Negotiating tea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41400" y="2870280"/>
            <a:ext cx="1092240" cy="489960"/>
          </a:xfrm>
          <a:prstGeom prst="rect">
            <a:avLst/>
          </a:prstGeom>
          <a:solidFill>
            <a:srgbClr val="61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0"/>
          <p:cNvSpPr/>
          <p:nvPr/>
        </p:nvSpPr>
        <p:spPr>
          <a:xfrm>
            <a:off x="1303200" y="2851200"/>
            <a:ext cx="17956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ree on the specific competitive challenges we face (e.g., who are our main competitors, what are our sources of competitive advantage and disadvanta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5EF8-3167-4878-9A36-AF8D1543BA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760" y="263160"/>
            <a:ext cx="81061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‘</a:t>
            </a: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Ground rules’ for this proces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AutoShape 6"/>
          <p:cNvCxnSpPr>
            <a:stCxn id="128" idx="0"/>
            <a:endCxn id="128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30" name="AutoShape 7"/>
          <p:cNvCxnSpPr>
            <a:stCxn id="128" idx="2"/>
            <a:endCxn id="128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31" name="Rectangle 14"/>
          <p:cNvSpPr/>
          <p:nvPr/>
        </p:nvSpPr>
        <p:spPr>
          <a:xfrm>
            <a:off x="563400" y="1292400"/>
            <a:ext cx="7856640" cy="4466520"/>
          </a:xfrm>
          <a:prstGeom prst="rect">
            <a:avLst/>
          </a:prstGeom>
          <a:noFill/>
          <a:ln w="3816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e agree not to share any numbers or ideas from these sessions outside this room until mutually agreed (no publication to Members, Board, etc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et’s keep these discussions small (target of 6 people, plus subject matter experts when need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ll requests for additional information should be run though our respective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e will keep working operational issues through the Flight Ops department, so this group can stay focused on our long-term competitive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e should plan to put everything on the table—we need to be open with each other if we’re going to make progr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3D41-7325-4479-8A1D-EB5A6C8400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861840" y="1004760"/>
            <a:ext cx="3316320" cy="571680"/>
          </a:xfrm>
          <a:prstGeom prst="rect">
            <a:avLst/>
          </a:prstGeom>
          <a:solidFill>
            <a:srgbClr val="617dbd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863640" y="1565280"/>
            <a:ext cx="3332160" cy="461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eam roles and timing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8"/>
          <p:cNvCxnSpPr>
            <a:stCxn id="138" idx="0"/>
            <a:endCxn id="138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40" name="AutoShape 9"/>
          <p:cNvCxnSpPr>
            <a:stCxn id="138" idx="2"/>
            <a:endCxn id="138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41" name="AutoShape 10"/>
          <p:cNvSpPr/>
          <p:nvPr/>
        </p:nvSpPr>
        <p:spPr>
          <a:xfrm>
            <a:off x="922320" y="1244520"/>
            <a:ext cx="3024360" cy="2746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4710240" y="1004760"/>
            <a:ext cx="3333600" cy="571680"/>
          </a:xfrm>
          <a:prstGeom prst="rect">
            <a:avLst/>
          </a:prstGeom>
          <a:solidFill>
            <a:srgbClr val="617dbd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711680" y="1565280"/>
            <a:ext cx="3332160" cy="461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4770360" y="1244520"/>
            <a:ext cx="3252960" cy="2746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1006560" y="1847880"/>
            <a:ext cx="28432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y B—Facili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r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son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SWAPA analy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9"/>
          <p:cNvSpPr/>
          <p:nvPr/>
        </p:nvSpPr>
        <p:spPr>
          <a:xfrm>
            <a:off x="4818240" y="1847880"/>
            <a:ext cx="28429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other week for 1-2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try to schedule these out for the next several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650F-E2D6-4426-A3AE-D195504BB7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ompetitive landscape for Legacies and LCC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96880" y="1058760"/>
            <a:ext cx="7724880" cy="5479560"/>
          </a:xfrm>
          <a:prstGeom prst="rect">
            <a:avLst/>
          </a:prstGeom>
          <a:noFill/>
          <a:ln w="3816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Legacy and LCC competitors, we want to align on a number of elements in order to clearly define the competitive challenges we fa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 profitability measures (ROIC, Net margin, Profit per pla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enue landsc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SM/PR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e overlap by competitor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st landsc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ll C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bor C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leet strategi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i.e., What will competitors fleets look like in 10 years, and how will this impact their revenues and cos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 strate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ther trends (e.g., AA bankruptcy, Legacy international expansion pla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4:40:43Z</dcterms:created>
  <dc:creator/>
  <dc:description/>
  <dc:language>en-US</dc:language>
  <cp:lastModifiedBy> </cp:lastModifiedBy>
  <cp:lastPrinted>2012-07-17T17:44:22Z</cp:lastPrinted>
  <dcterms:modified xsi:type="dcterms:W3CDTF">2012-07-20T12:49:54Z</dcterms:modified>
  <cp:revision>316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DocID">
    <vt:lpwstr/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LastEditedOfficeVersion">
    <vt:lpwstr>Office2003</vt:lpwstr>
  </property>
  <property fmtid="{D5CDD505-2E9C-101B-9397-08002B2CF9AE}" pid="10" name="McKPaperSize">
    <vt:lpwstr>A4</vt:lpwstr>
  </property>
  <property fmtid="{D5CDD505-2E9C-101B-9397-08002B2CF9AE}" pid="11" name="NotesPageLayout">
    <vt:lpwstr>Message</vt:lpwstr>
  </property>
  <property fmtid="{D5CDD505-2E9C-101B-9397-08002B2CF9AE}" pid="12" name="Office2003EditCount">
    <vt:lpwstr>1</vt:lpwstr>
  </property>
  <property fmtid="{D5CDD505-2E9C-101B-9397-08002B2CF9AE}" pid="13" name="Office2003WasSaved">
    <vt:lpwstr>1</vt:lpwstr>
  </property>
  <property fmtid="{D5CDD505-2E9C-101B-9397-08002B2CF9AE}" pid="14" name="Office2010EditCount">
    <vt:lpwstr>0</vt:lpwstr>
  </property>
  <property fmtid="{D5CDD505-2E9C-101B-9397-08002B2CF9AE}" pid="15" name="Title">
    <vt:lpwstr>Title</vt:lpwstr>
  </property>
  <property fmtid="{D5CDD505-2E9C-101B-9397-08002B2CF9AE}" pid="16" name="Universal Objects">
    <vt:bool>1</vt:bool>
  </property>
</Properties>
</file>